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10.png" ContentType="image/png"/>
  <Override PartName="/ppt/media/image5.wmf" ContentType="image/x-wmf"/>
  <Override PartName="/ppt/media/image9.jpeg" ContentType="image/jpeg"/>
  <Override PartName="/ppt/media/image11.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Verdan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22486-D28E-4563-AD58-9781286A43E4}"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4554-3140-42FC-B5C3-3711D4900D34}"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9480" y="712800"/>
            <a:ext cx="4560840" cy="3421080"/>
          </a:xfrm>
          <a:prstGeom prst="rect">
            <a:avLst/>
          </a:prstGeom>
          <a:ln w="0">
            <a:noFill/>
          </a:ln>
        </p:spPr>
      </p:sp>
      <p:sp>
        <p:nvSpPr>
          <p:cNvPr id="219"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9A36-5F8D-4A73-8030-C1C50D4AD01A}"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ogrammes have been based on a great number of activities carried out on different levels (local, regional and national) and by different stakehold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datory training of farmers by County Boards – there is a requirement on a four day long training course for all farmers using pesticides professionally. It has to be renewed within 5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visory service on inte</a:t>
            </a:r>
            <a:r>
              <a:rPr b="0" lang="en-GB" sz="1400" spc="-1" strike="noStrike">
                <a:solidFill>
                  <a:srgbClr val="000000"/>
                </a:solidFill>
                <a:latin typeface="Times New Roman"/>
                <a:ea typeface="Times New Roman"/>
              </a:rPr>
              <a:t>grated and need based crop protection. Examples of areas covered are pest forecasting and warning services, demonstration trials for example on unsprayed edge zones, information on possibilities to reduce the dose ra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search and development on need based crop protection, organic farming, spraying techniques et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gramme on voluntary testing of spraying equipment. The cost of these tests was earlier subsidized to farmers. The testing will probably become mandatory in a near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number of samples in food has been reduced whilst the water monitoring has increased and also started to be more coordin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environmental levy on pesticide is only 30 Swedish krona per kilogram active substance (approx. 3 €). It has very little influence on the u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new and promising element is a farmer driven info campaig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4A70-9180-4F91-9DC1-26CFE26ADFC5}"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Förbud mot att yrkesmässigt använda "allmänkemikalier" (organiska och oorganiska syror, petroleumprodukter m.m.) som växtskyddsmedel, blastdödningsmedel och liknande utan Kemikalieinspektionens godkännande.</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en att beakta skyddsavstånd till omgivningen betonas starkare. Numera ska hänsyn tas till risken för spridning såväl med vinden som via markyta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beakta vad markförhållandena betyder för risken att bekämpningsmedel läcker till grundvattn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omedelbart underrätta räddningstjänsten om en större olycka inträffar.</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innehav av lämplig utrustning för att mäta temperatur, vindriktning och vindstyrka (dvs. faktorer som inverkar på risken för oavsiktlig spridning med vinde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journalföring vid spridning av medel i klass 1 och 2. Journalerna ska sparas i tre år och ska vid anmodan kunna visas upp för tillsynsmyndigh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Anmälningsplikt till miljö- och hälsoskyddsnämnd inför spridning på banvall och idrottsanläggning (t.ex. golfbana).</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tillstånd från miljö- och hälsoskyddsnämnd för yrkesmässig spridning av bekämpningsmedel inom skyddsområde för vattentäkt, på tomtmark för flerfamiljshus och i samband med anläggnings- och planeringsarbeten. Sedan tidigare gäller motsvarande krav för spridning på gårdar till förskolor och skolor.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BAC6-C688-4333-8395-34D28C4E83ED}"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uses and activities are given particular attention in the pres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ling and cleaning of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pesticides in vulnerable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 and early use of herb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ge of herbicides in row sown crops on pervious so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use of fung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fan orchard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aying in greenhouses and the following handling of treate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5E19-BFFD-4BEC-BA32-C443A501F25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05E3-92B2-4C6B-908A-3835BBADC5AE}"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Times New Roman"/>
              </a:rPr>
              <a:t>At a few occassions a fluoroscent agent was dissolved in the water before the excercise. After the exercise all of the participants claimed that they made a good job without any spilling. However, to everyones surprise spillage could be easily seen in sharp red on their protective white clothing when exposed to a fluoroscent ligh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8C8A-FEB8-40F9-A3C4-6E1080E0E87E}"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aim of the Plant Protection Centers is to make plant protection in agri- and horticulture both efficient and environment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se are located in five different places in Swe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resence of pests, and the need for pesticides, vary much from year to year, and also from field to field in one y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o adapt the use of pesticides according to actual need is therefore very useful both for society's environmental concerns and for the econonomy of the individual farm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Pest and disease prognoses, Early warning of pests and diseases and diagnoses are of big importens for this adap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re is a great need for information concerning the use of pesticides, and the risks associated with this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lant Protection Centres take active part in a large number of courses, field excursions, telephone meetings, and national and international confer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Furthermore, most of the Plant Protection Centres' information is published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www.sjv.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02CA-B6EA-4543-AE0A-9F30ED6BA0A8}"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afe Use of Pest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informatio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 between authorities, chemical companies and the farmer orga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possibility for authorities to work together with the agricultural sector to successfully reach environment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ederation of Swedish farmers (L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wedish Crop Protection Asso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Nationals Chemicals Inspectorate (K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Board of Agriculture (SJ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Environmental Protection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2777-A9D9-4439-A886-4D2EC94373C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picture is showing one solution to collect, retain and degrade the spillage of pesticides during mixing, loading and cleaning of the sprayer by using a biobed. The biobed is a very simple construction composed by a mixture of straw, peat and soil covered by turf and a driving ramp to place the sprayer 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9002-9DD9-4929-A7B7-2467529C7D32}"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ver Vemmenhög in Skåne is the only river in Sweden for which there is a long time series of data on concentrations of pesticides (water catchment area). Since the beginning of the 1990s the concentrations have declined dramatically, despite the amount of pesticides used not having decreased, which coincides with information activities by Greppa and the introduction of a financial support system for environmental friendly agriculture. Source: Jenny Kreuger, SL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27A9-021C-4ACB-901B-21E8294CBB23}"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9480" y="712800"/>
            <a:ext cx="4560840" cy="3421080"/>
          </a:xfrm>
          <a:prstGeom prst="rect">
            <a:avLst/>
          </a:prstGeom>
          <a:ln w="0">
            <a:noFill/>
          </a:ln>
        </p:spPr>
      </p:sp>
      <p:sp>
        <p:nvSpPr>
          <p:cNvPr id="222" name="PlaceHolder 2"/>
          <p:cNvSpPr>
            <a:spLocks noGrp="1"/>
          </p:cNvSpPr>
          <p:nvPr>
            <p:ph type="body"/>
          </p:nvPr>
        </p:nvSpPr>
        <p:spPr>
          <a:xfrm>
            <a:off x="914400" y="4348080"/>
            <a:ext cx="5029200" cy="4135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Directive 2009/128/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weden and agriculture – a short int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 Non-toxic Environment – the national chemicals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se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ubstitution and phase out activities at the regulatory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andatory training of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dvisory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Greppa Växtskyddet – A stakeholder-drive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gramm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posal for a new NAP 2010-201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Conclu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624C-73CD-4A7F-A79B-92FAFF67E54E}"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8</a:t>
            </a:r>
            <a:r>
              <a:rPr b="0" lang="en-GB" sz="1400" spc="-1" strike="noStrike">
                <a:solidFill>
                  <a:srgbClr val="000000"/>
                </a:solidFill>
                <a:latin typeface="Times New Roman"/>
                <a:ea typeface="Times New Roman"/>
              </a:rPr>
              <a:t>0 percent of the farmers are members of FSF.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close and encouraging contact between authorities under the Ministry of Agriculture and the Ministry of Environment. The mission to develop the programme was given as a shared task to the Swedish Board of Agriculture and the National Chemicals Inspectora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1B28-B73A-482F-92AC-C5C298C5C58C}"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 few words about 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is 450 000 km2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 long coast. It is about 76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lot of inland waters. About 95000 lakes and more than 150 000 km of rivers and water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 is fo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pproximately 7 % is arabl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eals and temporary grass on arable land for hay or silage are the biggest cr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ilseed crops, peas, beans, potatoes and sugar beets are relatively sm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5A7B-7DED-49C9-9BB8-436F9F8BDE9E}"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diagram is showing sold quantities of active substance in plant protection products during the latest 27 years. The dotted base lines are from top to botto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 level, representing the average use during 1981-8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0 % reduction compared to the base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5 % reduction compared to the base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se lines marks the volume targets in the first two programmes. 75 % reduction was never achieved and the use today is scarcely 40 % of the average use during 1981-85. The peaks in the diagram (1986 and 1994) can be overlooked since they do not present actual use but are a result of different hoarding activ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 conclude, earlier there was a significant reduction in use, but since 1995 there has been a slight increase. Similar trends can be seen in other member states with reliable use statisti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ncrease can to a great extent be explained by the changes i</a:t>
            </a:r>
            <a:r>
              <a:rPr b="0" lang="sv-SE" sz="1400" spc="-1" strike="noStrike">
                <a:solidFill>
                  <a:srgbClr val="000000"/>
                </a:solidFill>
                <a:latin typeface="Times New Roman"/>
              </a:rPr>
              <a:t>n </a:t>
            </a:r>
            <a:r>
              <a:rPr b="0" lang="en-GB" sz="1400" spc="-1" strike="noStrike">
                <a:solidFill>
                  <a:srgbClr val="000000"/>
                </a:solidFill>
                <a:latin typeface="Times New Roman"/>
              </a:rPr>
              <a:t>crop distribution generated by the CAP and the financial support to agriculture. Winter sown cereals have become more common, leading to an intensified use of pesticid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C76E-D06F-4F6A-BDD4-5DE694C1AB5D}"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11A22-FA44-47C8-B1BB-1059E2C24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A2AB-2627-4E4C-8D5A-263C8036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17418-F583-4CF3-90B4-CDB9DA1DA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7F5BB-71E9-4A48-B3E1-E516D45DA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40EAE-A01D-4AC5-A6E9-D33D04033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962FF-0249-43F7-8D99-A788D5856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DA839-74A1-4993-94F1-29E73C003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1105A-CF5A-41E9-87A5-B0AB9EC2A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2DFE3-2E80-44CD-BEFC-2E593C7EC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1551E-4E70-485D-8BEC-BB3AE2B39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526DD-767C-4235-8DEB-58E892316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8837-AE2A-433C-837C-77EA3FF67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6379F-B5B3-41F8-B49C-5BDBC43F7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0A70C-16F6-457E-9D23-07D0F4BE9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33768-8E55-4B59-B4D5-E404D107D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C1832-7A53-4393-A6FF-64F0B6434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07E5B-3CA0-49D2-BEB1-81AF4BF18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E98845-D4B7-49C1-BFD6-90E389B1DB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0E4F0-48C0-4DEB-999E-9F4B83FFF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7A88D-708A-431F-84E0-34D66EA42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385B23-191A-4A38-B85C-4A2D037BA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8B741-5DB8-4BC1-9667-B3F07AF23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EE4A-0C98-4B7D-8160-7A6047E9A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6E3C5-B91A-459C-A80E-B3D8C7619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4FDD3-BC2B-4841-A67F-065E81E88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30D1E-3CC9-447A-81EE-452FE2F68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007FE-D83E-4C6C-A16C-859E38CB3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27043-2CA5-499C-8ABC-9F0CCD36F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2D500-9F06-4BC3-AA20-077567709D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B39FDD-778F-4CAE-9E48-3916A1184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5A77A-6333-4D04-ACC5-2DCD89BA6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0B424-5EBB-45B6-A06A-2DCF4739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78C1B-5A90-43A2-801F-4EFDDD0C4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0F3FF-7F52-43EB-BEDB-01E094C76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B9DE-2E02-4154-858C-EE54C97DA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F1C27-16CB-4A6C-998E-7AD1C5160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6C59-9DA2-4F8F-AD68-075ABDF36B4C}"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kemilogoswe"/>
          <p:cNvPicPr/>
          <p:nvPr/>
        </p:nvPicPr>
        <p:blipFill>
          <a:blip r:embed="rId2"/>
          <a:srcRect l="0" t="0" r="0" b="25840"/>
          <a:stretch/>
        </p:blipFill>
        <p:spPr>
          <a:xfrm>
            <a:off x="7772400" y="6222960"/>
            <a:ext cx="993600" cy="349200"/>
          </a:xfrm>
          <a:prstGeom prst="rect">
            <a:avLst/>
          </a:prstGeom>
          <a:ln w="0">
            <a:noFill/>
          </a:ln>
        </p:spPr>
      </p:pic>
      <p:sp>
        <p:nvSpPr>
          <p:cNvPr id="6"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
          <p:cNvPicPr/>
          <p:nvPr/>
        </p:nvPicPr>
        <p:blipFill>
          <a:blip r:embed="rId2"/>
          <a:srcRect l="3225" t="6940" r="5644" b="24420"/>
          <a:stretch/>
        </p:blipFill>
        <p:spPr>
          <a:xfrm>
            <a:off x="317520" y="228600"/>
            <a:ext cx="8521560" cy="5803920"/>
          </a:xfrm>
          <a:prstGeom prst="rect">
            <a:avLst/>
          </a:prstGeom>
          <a:ln w="0">
            <a:noFill/>
          </a:ln>
        </p:spPr>
      </p:pic>
      <p:sp>
        <p:nvSpPr>
          <p:cNvPr id="45" name="Rectangle 10"/>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46" name="Picture 13" descr="kemilogoswe"/>
          <p:cNvPicPr/>
          <p:nvPr/>
        </p:nvPicPr>
        <p:blipFill>
          <a:blip r:embed="rId3"/>
          <a:srcRect l="0" t="0" r="0" b="25840"/>
          <a:stretch/>
        </p:blipFill>
        <p:spPr>
          <a:xfrm>
            <a:off x="7772400" y="6222960"/>
            <a:ext cx="993600" cy="349200"/>
          </a:xfrm>
          <a:prstGeom prst="rect">
            <a:avLst/>
          </a:prstGeom>
          <a:ln w="0">
            <a:noFill/>
          </a:ln>
        </p:spPr>
      </p:pic>
      <p:sp>
        <p:nvSpPr>
          <p:cNvPr id="47" name="Rectangle 14"/>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8952-8BAE-490A-80ED-ED4B9660641A}"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kemilogoswe"/>
          <p:cNvPicPr/>
          <p:nvPr/>
        </p:nvPicPr>
        <p:blipFill>
          <a:blip r:embed="rId2"/>
          <a:srcRect l="0" t="0" r="0" b="25840"/>
          <a:stretch/>
        </p:blipFill>
        <p:spPr>
          <a:xfrm>
            <a:off x="7772400" y="6222960"/>
            <a:ext cx="993600" cy="349200"/>
          </a:xfrm>
          <a:prstGeom prst="rect">
            <a:avLst/>
          </a:prstGeom>
          <a:ln w="0">
            <a:noFill/>
          </a:ln>
        </p:spPr>
      </p:pic>
      <p:sp>
        <p:nvSpPr>
          <p:cNvPr id="90"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4-5 September 2009</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63FA-994A-47AA-AC82-F78C3F13D49A}"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90360"/>
            <a:ext cx="7772400" cy="20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wedish model</a:t>
            </a:r>
            <a:br>
              <a:rPr sz="3200"/>
            </a:br>
            <a:r>
              <a:rPr b="0" lang="en-GB" sz="3200" spc="-1" strike="noStrike">
                <a:solidFill>
                  <a:srgbClr val="000000"/>
                </a:solidFill>
                <a:latin typeface="Arial"/>
              </a:rPr>
              <a:t>Pesticide Risk Reduction</a:t>
            </a:r>
            <a:endParaRPr b="0" lang="en-US" sz="3200" spc="-1" strike="noStrike">
              <a:solidFill>
                <a:srgbClr val="000000"/>
              </a:solidFill>
              <a:latin typeface="Arial"/>
            </a:endParaRPr>
          </a:p>
        </p:txBody>
      </p:sp>
      <p:sp>
        <p:nvSpPr>
          <p:cNvPr id="141" name="PlaceHolder 2"/>
          <p:cNvSpPr>
            <a:spLocks noGrp="1"/>
          </p:cNvSpPr>
          <p:nvPr>
            <p:ph type="subTitle"/>
          </p:nvPr>
        </p:nvSpPr>
        <p:spPr>
          <a:xfrm>
            <a:off x="1285920" y="307188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lian Törnq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urce: Peter Bergk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edish Chemicals Agency</a:t>
            </a:r>
            <a:endParaRPr b="0" lang="en-US" sz="2200" spc="-1" strike="noStrike">
              <a:solidFill>
                <a:srgbClr val="000000"/>
              </a:solidFill>
              <a:latin typeface="Arial"/>
            </a:endParaRPr>
          </a:p>
        </p:txBody>
      </p:sp>
      <p:sp>
        <p:nvSpPr>
          <p:cNvPr id="142"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March 2016</a:t>
            </a: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s and activities in the National Action Plan</a:t>
            </a:r>
            <a:endParaRPr b="0" lang="en-US" sz="3200" spc="-1" strike="noStrike">
              <a:solidFill>
                <a:srgbClr val="000000"/>
              </a:solidFill>
              <a:latin typeface="Arial"/>
            </a:endParaRPr>
          </a:p>
        </p:txBody>
      </p:sp>
      <p:sp>
        <p:nvSpPr>
          <p:cNvPr id="188" name="PlaceHolder 2"/>
          <p:cNvSpPr>
            <a:spLocks noGrp="1"/>
          </p:cNvSpPr>
          <p:nvPr>
            <p:ph/>
          </p:nvPr>
        </p:nvSpPr>
        <p:spPr>
          <a:xfrm>
            <a:off x="685800" y="1981080"/>
            <a:ext cx="7772400" cy="4019760"/>
          </a:xfrm>
          <a:prstGeom prst="rect">
            <a:avLst/>
          </a:prstGeom>
          <a:noFill/>
          <a:ln w="0">
            <a:noFill/>
          </a:ln>
        </p:spPr>
        <p:txBody>
          <a:bodyPr anchor="t">
            <a:normAutofit fontScale="98000"/>
          </a:bodyPr>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roval provisions, substitution etc (KEMI)</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use regulations (SEP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training of farmers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visory service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and develo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oluntary testing of spraying equi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nitoring of residues in food and water (NF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vironmental levies (Government) </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 protection regulations (SWE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armer driven information campaign (joint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A Regulation on the Use of Pesticides</a:t>
            </a:r>
            <a:endParaRPr b="0" lang="en-US" sz="3200" spc="-1" strike="noStrike">
              <a:solidFill>
                <a:srgbClr val="000000"/>
              </a:solidFill>
              <a:latin typeface="Arial"/>
            </a:endParaRPr>
          </a:p>
        </p:txBody>
      </p:sp>
      <p:sp>
        <p:nvSpPr>
          <p:cNvPr id="190" name="PlaceHolder 2"/>
          <p:cNvSpPr>
            <a:spLocks noGrp="1"/>
          </p:cNvSpPr>
          <p:nvPr>
            <p:ph/>
          </p:nvPr>
        </p:nvSpPr>
        <p:spPr>
          <a:xfrm>
            <a:off x="685800" y="1981080"/>
            <a:ext cx="7772400" cy="4019760"/>
          </a:xfrm>
          <a:prstGeom prst="rect">
            <a:avLst/>
          </a:prstGeom>
          <a:noFill/>
          <a:ln w="0">
            <a:noFill/>
          </a:ln>
        </p:spPr>
        <p:txBody>
          <a:bodyPr anchor="t">
            <a:normAutofit fontScale="99000"/>
          </a:bodyPr>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to </a:t>
            </a:r>
            <a:br>
              <a:rPr sz="2200"/>
            </a:br>
            <a:r>
              <a:rPr b="0" lang="en-GB" sz="2200" spc="-1" strike="noStrike">
                <a:solidFill>
                  <a:srgbClr val="000000"/>
                </a:solidFill>
                <a:latin typeface="Arial"/>
              </a:rPr>
              <a:t>calculate and observe </a:t>
            </a:r>
            <a:br>
              <a:rPr sz="2200"/>
            </a:br>
            <a:r>
              <a:rPr b="0" lang="en-GB" sz="2200" spc="-1" strike="noStrike">
                <a:solidFill>
                  <a:srgbClr val="000000"/>
                </a:solidFill>
                <a:latin typeface="Arial"/>
              </a:rPr>
              <a:t>buffer zon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quipment </a:t>
            </a:r>
            <a:br>
              <a:rPr sz="2200"/>
            </a:br>
            <a:r>
              <a:rPr b="0" lang="en-GB" sz="2200" spc="-1" strike="noStrike">
                <a:solidFill>
                  <a:srgbClr val="000000"/>
                </a:solidFill>
                <a:latin typeface="Arial"/>
              </a:rPr>
              <a:t>requirement</a:t>
            </a:r>
            <a:br>
              <a:rPr sz="2200"/>
            </a:br>
            <a:r>
              <a:rPr b="0" lang="en-GB"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ulsory book-keeping of pesticide use</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of notification and information to local authoriti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ban on the use in certain areas without a permission</a:t>
            </a:r>
            <a:endParaRPr b="0" lang="en-US" sz="2200" spc="-1" strike="noStrike">
              <a:solidFill>
                <a:srgbClr val="000000"/>
              </a:solidFill>
              <a:latin typeface="Arial"/>
            </a:endParaRPr>
          </a:p>
        </p:txBody>
      </p:sp>
      <p:pic>
        <p:nvPicPr>
          <p:cNvPr id="191" name="Picture 4" descr="http://www.lrf.se/sv/oh/img005.jpg"/>
          <p:cNvPicPr/>
          <p:nvPr/>
        </p:nvPicPr>
        <p:blipFill>
          <a:blip r:embed="rId1"/>
          <a:stretch/>
        </p:blipFill>
        <p:spPr>
          <a:xfrm>
            <a:off x="3929040" y="1571760"/>
            <a:ext cx="4429080" cy="2552400"/>
          </a:xfrm>
          <a:prstGeom prst="rect">
            <a:avLst/>
          </a:prstGeom>
          <a:ln w="0">
            <a:noFill/>
          </a:ln>
        </p:spPr>
      </p:pic>
      <p:pic>
        <p:nvPicPr>
          <p:cNvPr id="192" name="Picture 6" descr=""/>
          <p:cNvPicPr/>
          <p:nvPr/>
        </p:nvPicPr>
        <p:blipFill>
          <a:blip r:embed="rId2"/>
          <a:stretch/>
        </p:blipFill>
        <p:spPr>
          <a:xfrm>
            <a:off x="4427640" y="3268800"/>
            <a:ext cx="3240000" cy="44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56840" y="714240"/>
            <a:ext cx="64738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uses/activities in focus:</a:t>
            </a:r>
            <a:endParaRPr b="0" lang="en-US" sz="3200" spc="-1" strike="noStrike">
              <a:solidFill>
                <a:srgbClr val="000000"/>
              </a:solidFill>
              <a:latin typeface="Arial"/>
            </a:endParaRPr>
          </a:p>
        </p:txBody>
      </p:sp>
      <p:sp>
        <p:nvSpPr>
          <p:cNvPr id="194" name="PlaceHolder 2"/>
          <p:cNvSpPr>
            <a:spLocks noGrp="1"/>
          </p:cNvSpPr>
          <p:nvPr>
            <p:ph/>
          </p:nvPr>
        </p:nvSpPr>
        <p:spPr>
          <a:xfrm>
            <a:off x="785880" y="1752480"/>
            <a:ext cx="7596000" cy="41817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nd cleaning of sprayer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in vulnerable area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and late season use of herb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herbicides in row sown crops on pervious soil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lications with fung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fan sprayers in orchard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aying in greenhouses and the following handling of treated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56840" y="713880"/>
            <a:ext cx="647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certification programme of users</a:t>
            </a:r>
            <a:endParaRPr b="0" lang="en-US" sz="3200" spc="-1" strike="noStrike">
              <a:solidFill>
                <a:srgbClr val="000000"/>
              </a:solidFill>
              <a:latin typeface="Arial"/>
            </a:endParaRPr>
          </a:p>
        </p:txBody>
      </p:sp>
      <p:sp>
        <p:nvSpPr>
          <p:cNvPr id="196" name="PlaceHolder 2"/>
          <p:cNvSpPr>
            <a:spLocks noGrp="1"/>
          </p:cNvSpPr>
          <p:nvPr>
            <p:ph/>
          </p:nvPr>
        </p:nvSpPr>
        <p:spPr>
          <a:xfrm>
            <a:off x="785880" y="1928880"/>
            <a:ext cx="7596000" cy="40053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required for all professional users of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day long course.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a:t>
            </a:r>
            <a:br>
              <a:rPr sz="2400"/>
            </a:br>
            <a:r>
              <a:rPr b="0" lang="en-GB" sz="2400" spc="-1" strike="noStrike">
                <a:solidFill>
                  <a:srgbClr val="000000"/>
                </a:solidFill>
                <a:latin typeface="Arial"/>
              </a:rPr>
              <a:t>- General aspects (legislation etc.)</a:t>
            </a:r>
            <a:br>
              <a:rPr sz="2400"/>
            </a:br>
            <a:r>
              <a:rPr b="0" lang="en-GB" sz="2400" spc="-1" strike="noStrike">
                <a:solidFill>
                  <a:srgbClr val="000000"/>
                </a:solidFill>
                <a:latin typeface="Arial"/>
              </a:rPr>
              <a:t>- Pesticide risks (environment, operators, food etc)</a:t>
            </a:r>
            <a:br>
              <a:rPr sz="2400"/>
            </a:br>
            <a:r>
              <a:rPr b="0" lang="en-GB" sz="2400" spc="-1" strike="noStrike">
                <a:solidFill>
                  <a:srgbClr val="000000"/>
                </a:solidFill>
                <a:latin typeface="Arial"/>
              </a:rPr>
              <a:t>- Practical work (plant protection issues)</a:t>
            </a:r>
            <a:br>
              <a:rPr sz="2400"/>
            </a:br>
            <a:r>
              <a:rPr b="0" lang="en-GB" sz="2400" spc="-1" strike="noStrike">
                <a:solidFill>
                  <a:srgbClr val="000000"/>
                </a:solidFill>
                <a:latin typeface="Arial"/>
              </a:rPr>
              <a:t>- Exercise (mixing and filling of a sprayer)</a:t>
            </a:r>
            <a:br>
              <a:rPr sz="2400"/>
            </a:br>
            <a:r>
              <a:rPr b="0" lang="en-GB" sz="2400" spc="-1" strike="noStrike">
                <a:solidFill>
                  <a:srgbClr val="000000"/>
                </a:solidFill>
                <a:latin typeface="Arial"/>
              </a:rPr>
              <a:t>- Examin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ertificate is valid for 5 yrs. 1 day renew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s</a:t>
            </a:r>
            <a:endParaRPr b="0" lang="en-US" sz="3200" spc="-1" strike="noStrike">
              <a:solidFill>
                <a:srgbClr val="000000"/>
              </a:solidFill>
              <a:latin typeface="Arial"/>
            </a:endParaRPr>
          </a:p>
        </p:txBody>
      </p:sp>
      <p:sp>
        <p:nvSpPr>
          <p:cNvPr id="198" name="PlaceHolder 2"/>
          <p:cNvSpPr>
            <a:spLocks noGrp="1"/>
          </p:cNvSpPr>
          <p:nvPr>
            <p:ph/>
          </p:nvPr>
        </p:nvSpPr>
        <p:spPr>
          <a:xfrm>
            <a:off x="857160" y="1412640"/>
            <a:ext cx="7483680" cy="454644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ticide approval - changeover to pesticides with less risk</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s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information - reduced use and safer handling</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y test of sprayers in oper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y on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of pesticide residues in food and water</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development</a:t>
            </a:r>
            <a:endParaRPr b="0" lang="en-US" sz="2400" spc="-1" strike="noStrike">
              <a:solidFill>
                <a:srgbClr val="000000"/>
              </a:solidFill>
              <a:latin typeface="Arial"/>
            </a:endParaRPr>
          </a:p>
        </p:txBody>
      </p:sp>
      <p:pic>
        <p:nvPicPr>
          <p:cNvPr id="199" name="Picture 2" descr="C:\Magnus bilder\ARBETSMILJÖN VID SPRUTAN\19B.JPG"/>
          <p:cNvPicPr/>
          <p:nvPr/>
        </p:nvPicPr>
        <p:blipFill>
          <a:blip r:embed="rId1"/>
          <a:stretch/>
        </p:blipFill>
        <p:spPr>
          <a:xfrm>
            <a:off x="428760" y="380880"/>
            <a:ext cx="8286480" cy="544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 Protection Cen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201" name="PlaceHolder 2"/>
          <p:cNvSpPr>
            <a:spLocks noGrp="1"/>
          </p:cNvSpPr>
          <p:nvPr>
            <p:ph/>
          </p:nvPr>
        </p:nvSpPr>
        <p:spPr>
          <a:xfrm>
            <a:off x="4219200" y="1752120"/>
            <a:ext cx="4127400" cy="4033800"/>
          </a:xfrm>
          <a:prstGeom prst="rect">
            <a:avLst/>
          </a:prstGeom>
          <a:noFill/>
          <a:ln w="0">
            <a:noFill/>
          </a:ln>
        </p:spPr>
        <p:txBody>
          <a:bodyPr anchor="t">
            <a:normAutofit/>
          </a:bodyPr>
          <a:p>
            <a:pPr marL="380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sk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warning of pests and disease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field advisory service</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b information</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ological trials</a:t>
            </a:r>
            <a:br>
              <a:rPr sz="2200"/>
            </a:br>
            <a:br>
              <a:rPr sz="2200"/>
            </a:br>
            <a:r>
              <a:rPr b="0" lang="en-GB" sz="2200" spc="-1" strike="noStrike">
                <a:solidFill>
                  <a:srgbClr val="3333cc"/>
                </a:solidFill>
                <a:latin typeface="Verdana"/>
              </a:rPr>
              <a:t>www.sjv.se/vsc</a:t>
            </a:r>
            <a:endParaRPr b="0" lang="en-US" sz="2200" spc="-1" strike="noStrike">
              <a:solidFill>
                <a:srgbClr val="000000"/>
              </a:solidFill>
              <a:latin typeface="Arial"/>
            </a:endParaRPr>
          </a:p>
          <a:p>
            <a:pPr marL="380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1028"/>
          <p:cNvSpPr/>
          <p:nvPr/>
        </p:nvSpPr>
        <p:spPr>
          <a:xfrm>
            <a:off x="3686040" y="2160720"/>
            <a:ext cx="42134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Picture 1029" descr="Regionkontor"/>
          <p:cNvPicPr/>
          <p:nvPr/>
        </p:nvPicPr>
        <p:blipFill>
          <a:blip r:embed="rId1"/>
          <a:stretch/>
        </p:blipFill>
        <p:spPr>
          <a:xfrm>
            <a:off x="785880" y="1785960"/>
            <a:ext cx="3214800" cy="3894120"/>
          </a:xfrm>
          <a:prstGeom prst="rect">
            <a:avLst/>
          </a:prstGeom>
          <a:ln w="0">
            <a:noFill/>
          </a:ln>
        </p:spPr>
      </p:pic>
      <p:sp>
        <p:nvSpPr>
          <p:cNvPr id="204" name="Rectangle 1030"/>
          <p:cNvSpPr/>
          <p:nvPr/>
        </p:nvSpPr>
        <p:spPr>
          <a:xfrm>
            <a:off x="3686040" y="216072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5" name="Rectangle 1031"/>
          <p:cNvSpPr/>
          <p:nvPr/>
        </p:nvSpPr>
        <p:spPr>
          <a:xfrm>
            <a:off x="3686040" y="2160720"/>
            <a:ext cx="54295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143680" y="499680"/>
            <a:ext cx="33400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ocus on Pesticides”</a:t>
            </a:r>
            <a:endParaRPr b="0" lang="en-US" sz="3200" spc="-1" strike="noStrike">
              <a:solidFill>
                <a:srgbClr val="000000"/>
              </a:solidFill>
              <a:latin typeface="Arial"/>
            </a:endParaRPr>
          </a:p>
        </p:txBody>
      </p:sp>
      <p:sp>
        <p:nvSpPr>
          <p:cNvPr id="207" name="PlaceHolder 2"/>
          <p:cNvSpPr>
            <a:spLocks noGrp="1"/>
          </p:cNvSpPr>
          <p:nvPr>
            <p:ph/>
          </p:nvPr>
        </p:nvSpPr>
        <p:spPr>
          <a:xfrm>
            <a:off x="642960" y="2571840"/>
            <a:ext cx="7902720" cy="3378240"/>
          </a:xfrm>
          <a:prstGeom prst="rect">
            <a:avLst/>
          </a:prstGeom>
          <a:noFill/>
          <a:ln w="0">
            <a:noFill/>
          </a:ln>
        </p:spPr>
        <p:txBody>
          <a:bodyPr anchor="t">
            <a:normAutofit fontScale="97000"/>
          </a:bodyPr>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information campaign between authorities, the farmers association, retailers and industry.</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ise awareness of pesticide risks among farmers.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in focus on reducing point source pollution.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Helper” to calculate proper buffer zones related to wind drift.</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mote filling and cleaning of spraying equipment on biological active grounds such as on a "biobed“.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s on Youtube with practical advice to farmers.</a:t>
            </a:r>
            <a:endParaRPr b="0" lang="en-US" sz="2200" spc="-1" strike="noStrike">
              <a:solidFill>
                <a:srgbClr val="000000"/>
              </a:solidFill>
              <a:latin typeface="Arial"/>
            </a:endParaRPr>
          </a:p>
        </p:txBody>
      </p:sp>
      <p:pic>
        <p:nvPicPr>
          <p:cNvPr id="208" name="Picture 5" descr="2710A25FFE927540B4DE08B9D2D8D285@lrf"/>
          <p:cNvPicPr/>
          <p:nvPr/>
        </p:nvPicPr>
        <p:blipFill>
          <a:blip r:embed="rId1"/>
          <a:stretch/>
        </p:blipFill>
        <p:spPr>
          <a:xfrm>
            <a:off x="971640" y="476280"/>
            <a:ext cx="3774960" cy="14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lrf.se/sv/oh/img013.jpg"/>
          <p:cNvPicPr/>
          <p:nvPr/>
        </p:nvPicPr>
        <p:blipFill>
          <a:blip r:embed="rId1"/>
          <a:stretch/>
        </p:blipFill>
        <p:spPr>
          <a:xfrm>
            <a:off x="838080" y="685800"/>
            <a:ext cx="7467840" cy="4952880"/>
          </a:xfrm>
          <a:prstGeom prst="rect">
            <a:avLst/>
          </a:prstGeom>
          <a:ln w="0">
            <a:noFill/>
          </a:ln>
        </p:spPr>
      </p:pic>
      <p:sp>
        <p:nvSpPr>
          <p:cNvPr id="210" name="textruta 2"/>
          <p:cNvSpPr/>
          <p:nvPr/>
        </p:nvSpPr>
        <p:spPr>
          <a:xfrm>
            <a:off x="2928960" y="1071720"/>
            <a:ext cx="3357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Verdana"/>
              </a:rPr>
              <a:t>Biob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357120"/>
            <a:ext cx="84297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conc. of pesticide residues in the river of Vemmenhög May-Sept 1992-2008</a:t>
            </a:r>
            <a:endParaRPr b="0" lang="en-US" sz="3200" spc="-1" strike="noStrike">
              <a:solidFill>
                <a:srgbClr val="000000"/>
              </a:solidFill>
              <a:latin typeface="Arial"/>
            </a:endParaRPr>
          </a:p>
        </p:txBody>
      </p:sp>
      <p:pic>
        <p:nvPicPr>
          <p:cNvPr id="212" name="Diagram 8" descr=""/>
          <p:cNvPicPr/>
          <p:nvPr/>
        </p:nvPicPr>
        <p:blipFill>
          <a:blip r:embed="rId1"/>
          <a:stretch/>
        </p:blipFill>
        <p:spPr>
          <a:xfrm>
            <a:off x="353880" y="1566720"/>
            <a:ext cx="8466120" cy="51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sticide Risk Indicators</a:t>
            </a:r>
            <a:endParaRPr b="0" lang="en-US" sz="3200" spc="-1" strike="noStrike">
              <a:solidFill>
                <a:srgbClr val="000000"/>
              </a:solidFill>
              <a:latin typeface="Arial"/>
            </a:endParaRPr>
          </a:p>
        </p:txBody>
      </p:sp>
      <p:pic>
        <p:nvPicPr>
          <p:cNvPr id="214" name="Diagram 3" descr=""/>
          <p:cNvPicPr/>
          <p:nvPr/>
        </p:nvPicPr>
        <p:blipFill>
          <a:blip r:embed="rId1"/>
          <a:stretch/>
        </p:blipFill>
        <p:spPr>
          <a:xfrm>
            <a:off x="417600" y="1146240"/>
            <a:ext cx="8237520" cy="49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U Directive 2009/128/EC</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weden and agriculture – a short introduc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sed quantities of pesticid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National Action Plan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ubstitution at regulatory level</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ndatory training of us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dvisory servic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n-GB" sz="2200" spc="-1" strike="noStrike">
                <a:solidFill>
                  <a:srgbClr val="000000"/>
                </a:solidFill>
                <a:latin typeface="Arial"/>
                <a:ea typeface="Arial"/>
              </a:rPr>
              <a:t>Säkert Växtskydd” – A stakeholder-driven campaig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clus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216" name="PlaceHolder 2"/>
          <p:cNvSpPr>
            <a:spLocks noGrp="1"/>
          </p:cNvSpPr>
          <p:nvPr>
            <p:ph/>
          </p:nvPr>
        </p:nvSpPr>
        <p:spPr>
          <a:xfrm>
            <a:off x="685800" y="1980720"/>
            <a:ext cx="7772400" cy="3948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at has contributed to the succes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ance between mandatory and voluntary elements </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ivities performed at different levels and driven by different stakehold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ll support of the programme from the Association of Swedish Farm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 the environmental and agricultural author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a:t>
            </a:r>
            <a:br>
              <a:rPr sz="3200"/>
            </a:b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National action plans (14 December 2012)</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Training, sales, information and awareness-raising </a:t>
            </a:r>
            <a:endParaRPr b="0" lang="en-US" sz="2200" spc="-1" strike="noStrike">
              <a:solidFill>
                <a:srgbClr val="000000"/>
              </a:solidFill>
              <a:latin typeface="Arial"/>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3 certification system)</a:t>
            </a:r>
            <a:endParaRPr b="0" lang="en-US" sz="2000" spc="-1" strike="noStrike">
              <a:solidFill>
                <a:srgbClr val="000000"/>
              </a:solidFill>
              <a:latin typeface="Verdana"/>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5 sufficient educated staff, restrict sales for professional use, etc.</a:t>
            </a:r>
            <a:endParaRPr b="0" lang="en-US" sz="2000" spc="-1" strike="noStrike">
              <a:solidFill>
                <a:srgbClr val="000000"/>
              </a:solidFill>
              <a:latin typeface="Verdana"/>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esticide application equipment; inspections by14 December 2016</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erial spraying –prohibited, bu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rotection of aquatic environment and drinking water</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Reduction of amount us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 </a:t>
            </a:r>
            <a:r>
              <a:rPr b="0" lang="sv-SE" sz="2300" spc="-1" strike="noStrike">
                <a:solidFill>
                  <a:srgbClr val="000000"/>
                </a:solidFill>
                <a:latin typeface="Arial"/>
              </a:rPr>
              <a:t>cont.</a:t>
            </a:r>
            <a:endParaRPr b="0" lang="en-US" sz="23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ing and storag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rated pest managemen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ors, reporting and information exchange</a:t>
            </a:r>
            <a:endParaRPr b="0" lang="en-US" sz="2200" spc="-1" strike="noStrike">
              <a:solidFill>
                <a:srgbClr val="000000"/>
              </a:solidFill>
              <a:latin typeface="Arial"/>
            </a:endParaRPr>
          </a:p>
        </p:txBody>
      </p:sp>
      <p:sp>
        <p:nvSpPr>
          <p:cNvPr id="150"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mplementing phase in EU</a:t>
            </a:r>
            <a:endParaRPr b="0" lang="en-US" sz="3200" spc="-1" strike="noStrike">
              <a:solidFill>
                <a:srgbClr val="000000"/>
              </a:solidFill>
              <a:latin typeface="Arial"/>
            </a:endParaRPr>
          </a:p>
        </p:txBody>
      </p:sp>
      <p:pic>
        <p:nvPicPr>
          <p:cNvPr id="152" name="Platshållare för innehåll 4" descr="Implementing phase overview - European Commission - Windows Internet Explorer"/>
          <p:cNvPicPr/>
          <p:nvPr/>
        </p:nvPicPr>
        <p:blipFill>
          <a:blip r:embed="rId1"/>
          <a:srcRect l="12075" t="8663" r="14477" b="0"/>
          <a:stretch/>
        </p:blipFill>
        <p:spPr>
          <a:xfrm>
            <a:off x="225360" y="1353960"/>
            <a:ext cx="7292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840120" y="549360"/>
            <a:ext cx="5051520" cy="2459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50 000 km</a:t>
            </a:r>
            <a:r>
              <a:rPr b="0" lang="en-GB" sz="1800" spc="-1" strike="noStrike" baseline="30000">
                <a:solidFill>
                  <a:srgbClr val="000000"/>
                </a:solidFill>
                <a:latin typeface="Verdana"/>
              </a:rPr>
              <a:t>2</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600 km long coast</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5 000 lakes &gt; 0.01 km</a:t>
            </a:r>
            <a:r>
              <a:rPr b="0" lang="en-GB" sz="1800" spc="-1" strike="noStrike" baseline="30000">
                <a:solidFill>
                  <a:srgbClr val="000000"/>
                </a:solidFill>
                <a:latin typeface="Verdana"/>
              </a:rPr>
              <a:t>2</a:t>
            </a:r>
            <a:r>
              <a:rPr b="0" lang="en-GB" sz="1800" spc="-1" strike="noStrike">
                <a:solidFill>
                  <a:srgbClr val="000000"/>
                </a:solidFill>
                <a:latin typeface="Verdana"/>
              </a:rPr>
              <a: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t; 150 000 km rivers and water courses</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5 % fores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 arable land or about 2.7 million hectare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5 000 agricultural holdings</a:t>
            </a:r>
            <a:endParaRPr b="0" lang="en-US" sz="1800" spc="-1" strike="noStrike">
              <a:solidFill>
                <a:srgbClr val="000000"/>
              </a:solidFill>
              <a:latin typeface="Verdana"/>
            </a:endParaRPr>
          </a:p>
        </p:txBody>
      </p:sp>
      <p:pic>
        <p:nvPicPr>
          <p:cNvPr id="154" name="Picture 5" descr="Sverigekarta odlad areal + skog + kust"/>
          <p:cNvPicPr/>
          <p:nvPr/>
        </p:nvPicPr>
        <p:blipFill>
          <a:blip r:embed="rId1"/>
          <a:stretch/>
        </p:blipFill>
        <p:spPr>
          <a:xfrm>
            <a:off x="928800" y="571680"/>
            <a:ext cx="2386080" cy="5379840"/>
          </a:xfrm>
          <a:prstGeom prst="rect">
            <a:avLst/>
          </a:prstGeom>
          <a:ln w="0">
            <a:noFill/>
          </a:ln>
        </p:spPr>
      </p:pic>
      <p:pic>
        <p:nvPicPr>
          <p:cNvPr id="155" name="Picture 14" descr=""/>
          <p:cNvPicPr/>
          <p:nvPr/>
        </p:nvPicPr>
        <p:blipFill>
          <a:blip r:embed="rId2"/>
          <a:stretch/>
        </p:blipFill>
        <p:spPr>
          <a:xfrm>
            <a:off x="3143160" y="3143160"/>
            <a:ext cx="457200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ld and used quantities of active substances in plant protection products in Sweden</a:t>
            </a:r>
            <a:endParaRPr b="0" lang="en-US" sz="3200" spc="-1" strike="noStrike">
              <a:solidFill>
                <a:srgbClr val="000000"/>
              </a:solidFill>
              <a:latin typeface="Arial"/>
            </a:endParaRPr>
          </a:p>
        </p:txBody>
      </p:sp>
      <p:pic>
        <p:nvPicPr>
          <p:cNvPr id="157" name="Diagram 3" descr=""/>
          <p:cNvPicPr/>
          <p:nvPr/>
        </p:nvPicPr>
        <p:blipFill>
          <a:blip r:embed="rId1"/>
          <a:stretch/>
        </p:blipFill>
        <p:spPr>
          <a:xfrm>
            <a:off x="417600" y="930240"/>
            <a:ext cx="823752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 of pesticides in Sweden</a:t>
            </a:r>
            <a:endParaRPr b="0" lang="en-US" sz="3200" spc="-1" strike="noStrike">
              <a:solidFill>
                <a:srgbClr val="000000"/>
              </a:solidFill>
              <a:latin typeface="Arial"/>
            </a:endParaRPr>
          </a:p>
        </p:txBody>
      </p:sp>
      <p:sp>
        <p:nvSpPr>
          <p:cNvPr id="159" name="Cloud"/>
          <p:cNvSpPr/>
          <p:nvPr/>
        </p:nvSpPr>
        <p:spPr>
          <a:xfrm>
            <a:off x="2666880" y="1447920"/>
            <a:ext cx="3429000" cy="199044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U legislation</a:t>
            </a:r>
            <a:endParaRPr b="0" lang="en-US" sz="2800" spc="-1" strike="noStrike">
              <a:solidFill>
                <a:srgbClr val="000000"/>
              </a:solidFill>
              <a:latin typeface="Verdana"/>
            </a:endParaRPr>
          </a:p>
        </p:txBody>
      </p:sp>
      <p:sp>
        <p:nvSpPr>
          <p:cNvPr id="160" name="Rectangle 1028"/>
          <p:cNvSpPr/>
          <p:nvPr/>
        </p:nvSpPr>
        <p:spPr>
          <a:xfrm>
            <a:off x="609480" y="3886200"/>
            <a:ext cx="2208240" cy="2052720"/>
          </a:xfrm>
          <a:prstGeom prst="rect">
            <a:avLst/>
          </a:prstGeom>
          <a:solidFill>
            <a:srgbClr val="a5ffc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pproval system</a:t>
            </a:r>
            <a:endParaRPr b="0" lang="en-US" sz="2200" spc="-1" strike="noStrike">
              <a:solidFill>
                <a:srgbClr val="000000"/>
              </a:solidFill>
              <a:latin typeface="Verdana"/>
            </a:endParaRPr>
          </a:p>
        </p:txBody>
      </p:sp>
      <p:sp>
        <p:nvSpPr>
          <p:cNvPr id="161" name="Freeform 1029"/>
          <p:cNvSpPr/>
          <p:nvPr/>
        </p:nvSpPr>
        <p:spPr>
          <a:xfrm>
            <a:off x="639720" y="5240160"/>
            <a:ext cx="1422360" cy="704880"/>
          </a:xfrm>
          <a:custGeom>
            <a:avLst/>
            <a:gdLst>
              <a:gd name="textAreaLeft" fmla="*/ 0 w 1422360"/>
              <a:gd name="textAreaRight" fmla="*/ 1422720 w 1422360"/>
              <a:gd name="textAreaTop" fmla="*/ 0 h 704880"/>
              <a:gd name="textAreaBottom" fmla="*/ 705240 h 704880"/>
            </a:gdLst>
            <a:ahLst/>
            <a:rect l="textAreaLeft" t="textAreaTop" r="textAreaRight" b="textAreaBottom"/>
            <a:pathLst>
              <a:path w="1792" h="888">
                <a:moveTo>
                  <a:pt x="0" y="520"/>
                </a:moveTo>
                <a:lnTo>
                  <a:pt x="8" y="511"/>
                </a:lnTo>
                <a:lnTo>
                  <a:pt x="18" y="495"/>
                </a:lnTo>
                <a:lnTo>
                  <a:pt x="30" y="473"/>
                </a:lnTo>
                <a:lnTo>
                  <a:pt x="45" y="446"/>
                </a:lnTo>
                <a:lnTo>
                  <a:pt x="61" y="417"/>
                </a:lnTo>
                <a:lnTo>
                  <a:pt x="77" y="384"/>
                </a:lnTo>
                <a:lnTo>
                  <a:pt x="95" y="351"/>
                </a:lnTo>
                <a:lnTo>
                  <a:pt x="112" y="315"/>
                </a:lnTo>
                <a:lnTo>
                  <a:pt x="129" y="282"/>
                </a:lnTo>
                <a:lnTo>
                  <a:pt x="145" y="248"/>
                </a:lnTo>
                <a:lnTo>
                  <a:pt x="160" y="218"/>
                </a:lnTo>
                <a:lnTo>
                  <a:pt x="173" y="191"/>
                </a:lnTo>
                <a:lnTo>
                  <a:pt x="183" y="168"/>
                </a:lnTo>
                <a:lnTo>
                  <a:pt x="193" y="150"/>
                </a:lnTo>
                <a:lnTo>
                  <a:pt x="197" y="139"/>
                </a:lnTo>
                <a:lnTo>
                  <a:pt x="200" y="135"/>
                </a:lnTo>
                <a:lnTo>
                  <a:pt x="648" y="0"/>
                </a:lnTo>
                <a:lnTo>
                  <a:pt x="652" y="0"/>
                </a:lnTo>
                <a:lnTo>
                  <a:pt x="665" y="0"/>
                </a:lnTo>
                <a:lnTo>
                  <a:pt x="685" y="0"/>
                </a:lnTo>
                <a:lnTo>
                  <a:pt x="711" y="0"/>
                </a:lnTo>
                <a:lnTo>
                  <a:pt x="742" y="0"/>
                </a:lnTo>
                <a:lnTo>
                  <a:pt x="777" y="0"/>
                </a:lnTo>
                <a:lnTo>
                  <a:pt x="814" y="1"/>
                </a:lnTo>
                <a:lnTo>
                  <a:pt x="852" y="1"/>
                </a:lnTo>
                <a:lnTo>
                  <a:pt x="891" y="1"/>
                </a:lnTo>
                <a:lnTo>
                  <a:pt x="929" y="2"/>
                </a:lnTo>
                <a:lnTo>
                  <a:pt x="966" y="2"/>
                </a:lnTo>
                <a:lnTo>
                  <a:pt x="999" y="3"/>
                </a:lnTo>
                <a:lnTo>
                  <a:pt x="1028" y="4"/>
                </a:lnTo>
                <a:lnTo>
                  <a:pt x="1052" y="5"/>
                </a:lnTo>
                <a:lnTo>
                  <a:pt x="1069" y="6"/>
                </a:lnTo>
                <a:lnTo>
                  <a:pt x="1080" y="8"/>
                </a:lnTo>
                <a:lnTo>
                  <a:pt x="1088" y="10"/>
                </a:lnTo>
                <a:lnTo>
                  <a:pt x="1098" y="12"/>
                </a:lnTo>
                <a:lnTo>
                  <a:pt x="1113" y="16"/>
                </a:lnTo>
                <a:lnTo>
                  <a:pt x="1129" y="20"/>
                </a:lnTo>
                <a:lnTo>
                  <a:pt x="1146" y="25"/>
                </a:lnTo>
                <a:lnTo>
                  <a:pt x="1166" y="29"/>
                </a:lnTo>
                <a:lnTo>
                  <a:pt x="1187" y="34"/>
                </a:lnTo>
                <a:lnTo>
                  <a:pt x="1208" y="40"/>
                </a:lnTo>
                <a:lnTo>
                  <a:pt x="1227" y="46"/>
                </a:lnTo>
                <a:lnTo>
                  <a:pt x="1248" y="50"/>
                </a:lnTo>
                <a:lnTo>
                  <a:pt x="1266" y="55"/>
                </a:lnTo>
                <a:lnTo>
                  <a:pt x="1284" y="59"/>
                </a:lnTo>
                <a:lnTo>
                  <a:pt x="1300" y="64"/>
                </a:lnTo>
                <a:lnTo>
                  <a:pt x="1312" y="68"/>
                </a:lnTo>
                <a:lnTo>
                  <a:pt x="1322" y="70"/>
                </a:lnTo>
                <a:lnTo>
                  <a:pt x="1329" y="72"/>
                </a:lnTo>
                <a:lnTo>
                  <a:pt x="1335" y="77"/>
                </a:lnTo>
                <a:lnTo>
                  <a:pt x="1347" y="86"/>
                </a:lnTo>
                <a:lnTo>
                  <a:pt x="1362" y="99"/>
                </a:lnTo>
                <a:lnTo>
                  <a:pt x="1380" y="116"/>
                </a:lnTo>
                <a:lnTo>
                  <a:pt x="1402" y="135"/>
                </a:lnTo>
                <a:lnTo>
                  <a:pt x="1424" y="156"/>
                </a:lnTo>
                <a:lnTo>
                  <a:pt x="1448" y="179"/>
                </a:lnTo>
                <a:lnTo>
                  <a:pt x="1474" y="203"/>
                </a:lnTo>
                <a:lnTo>
                  <a:pt x="1497" y="226"/>
                </a:lnTo>
                <a:lnTo>
                  <a:pt x="1521" y="250"/>
                </a:lnTo>
                <a:lnTo>
                  <a:pt x="1542" y="270"/>
                </a:lnTo>
                <a:lnTo>
                  <a:pt x="1561" y="289"/>
                </a:lnTo>
                <a:lnTo>
                  <a:pt x="1577" y="305"/>
                </a:lnTo>
                <a:lnTo>
                  <a:pt x="1590" y="317"/>
                </a:lnTo>
                <a:lnTo>
                  <a:pt x="1598" y="326"/>
                </a:lnTo>
                <a:lnTo>
                  <a:pt x="1600" y="328"/>
                </a:lnTo>
                <a:lnTo>
                  <a:pt x="1752" y="688"/>
                </a:lnTo>
                <a:lnTo>
                  <a:pt x="1792" y="888"/>
                </a:lnTo>
                <a:lnTo>
                  <a:pt x="8" y="880"/>
                </a:lnTo>
                <a:lnTo>
                  <a:pt x="0" y="52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2" name="Freeform 1030"/>
          <p:cNvSpPr/>
          <p:nvPr/>
        </p:nvSpPr>
        <p:spPr>
          <a:xfrm>
            <a:off x="1449360" y="4465800"/>
            <a:ext cx="714240" cy="914400"/>
          </a:xfrm>
          <a:custGeom>
            <a:avLst/>
            <a:gdLst>
              <a:gd name="textAreaLeft" fmla="*/ 0 w 714240"/>
              <a:gd name="textAreaRight" fmla="*/ 714600 w 714240"/>
              <a:gd name="textAreaTop" fmla="*/ 0 h 914400"/>
              <a:gd name="textAreaBottom" fmla="*/ 914760 h 914400"/>
            </a:gdLst>
            <a:ahLst/>
            <a:rect l="textAreaLeft" t="textAreaTop" r="textAreaRight" b="textAreaBottom"/>
            <a:pathLst>
              <a:path w="899" h="1152">
                <a:moveTo>
                  <a:pt x="628" y="1152"/>
                </a:moveTo>
                <a:lnTo>
                  <a:pt x="899" y="224"/>
                </a:lnTo>
                <a:lnTo>
                  <a:pt x="270" y="0"/>
                </a:lnTo>
                <a:lnTo>
                  <a:pt x="0" y="928"/>
                </a:lnTo>
                <a:lnTo>
                  <a:pt x="628" y="1152"/>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3" name="Freeform 1031"/>
          <p:cNvSpPr/>
          <p:nvPr/>
        </p:nvSpPr>
        <p:spPr>
          <a:xfrm>
            <a:off x="1481040" y="4503600"/>
            <a:ext cx="646200" cy="855720"/>
          </a:xfrm>
          <a:custGeom>
            <a:avLst/>
            <a:gdLst>
              <a:gd name="textAreaLeft" fmla="*/ 0 w 646200"/>
              <a:gd name="textAreaRight" fmla="*/ 646200 w 646200"/>
              <a:gd name="textAreaTop" fmla="*/ 0 h 855720"/>
              <a:gd name="textAreaBottom" fmla="*/ 856080 h 855720"/>
            </a:gdLst>
            <a:ahLst/>
            <a:rect l="textAreaLeft" t="textAreaTop" r="textAreaRight" b="textAreaBottom"/>
            <a:pathLst>
              <a:path w="813" h="1079">
                <a:moveTo>
                  <a:pt x="563" y="1079"/>
                </a:moveTo>
                <a:lnTo>
                  <a:pt x="813" y="202"/>
                </a:lnTo>
                <a:lnTo>
                  <a:pt x="250" y="0"/>
                </a:lnTo>
                <a:lnTo>
                  <a:pt x="0" y="878"/>
                </a:lnTo>
                <a:lnTo>
                  <a:pt x="563" y="10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4" name="Freeform 1032"/>
          <p:cNvSpPr/>
          <p:nvPr/>
        </p:nvSpPr>
        <p:spPr>
          <a:xfrm>
            <a:off x="644400" y="4525920"/>
            <a:ext cx="1687680" cy="1414440"/>
          </a:xfrm>
          <a:custGeom>
            <a:avLst/>
            <a:gdLst>
              <a:gd name="textAreaLeft" fmla="*/ 0 w 1687680"/>
              <a:gd name="textAreaRight" fmla="*/ 1688040 w 1687680"/>
              <a:gd name="textAreaTop" fmla="*/ 0 h 1414440"/>
              <a:gd name="textAreaBottom" fmla="*/ 1414800 h 1414440"/>
            </a:gdLst>
            <a:ahLst/>
            <a:rect l="textAreaLeft" t="textAreaTop" r="textAreaRight" b="textAreaBottom"/>
            <a:pathLst>
              <a:path w="2125" h="1782">
                <a:moveTo>
                  <a:pt x="1590" y="1687"/>
                </a:moveTo>
                <a:lnTo>
                  <a:pt x="1698" y="1647"/>
                </a:lnTo>
                <a:lnTo>
                  <a:pt x="1685" y="1603"/>
                </a:lnTo>
                <a:lnTo>
                  <a:pt x="1571" y="1579"/>
                </a:lnTo>
                <a:lnTo>
                  <a:pt x="1676" y="1535"/>
                </a:lnTo>
                <a:lnTo>
                  <a:pt x="1674" y="1522"/>
                </a:lnTo>
                <a:lnTo>
                  <a:pt x="1674" y="1510"/>
                </a:lnTo>
                <a:lnTo>
                  <a:pt x="1672" y="1499"/>
                </a:lnTo>
                <a:lnTo>
                  <a:pt x="1665" y="1488"/>
                </a:lnTo>
                <a:lnTo>
                  <a:pt x="1559" y="1486"/>
                </a:lnTo>
                <a:lnTo>
                  <a:pt x="1645" y="1436"/>
                </a:lnTo>
                <a:lnTo>
                  <a:pt x="1646" y="1427"/>
                </a:lnTo>
                <a:lnTo>
                  <a:pt x="1644" y="1416"/>
                </a:lnTo>
                <a:lnTo>
                  <a:pt x="1639" y="1403"/>
                </a:lnTo>
                <a:lnTo>
                  <a:pt x="1635" y="1394"/>
                </a:lnTo>
                <a:lnTo>
                  <a:pt x="1543" y="1399"/>
                </a:lnTo>
                <a:lnTo>
                  <a:pt x="1622" y="1337"/>
                </a:lnTo>
                <a:lnTo>
                  <a:pt x="1619" y="1323"/>
                </a:lnTo>
                <a:lnTo>
                  <a:pt x="1615" y="1313"/>
                </a:lnTo>
                <a:lnTo>
                  <a:pt x="1610" y="1303"/>
                </a:lnTo>
                <a:lnTo>
                  <a:pt x="1602" y="1288"/>
                </a:lnTo>
                <a:lnTo>
                  <a:pt x="1515" y="1312"/>
                </a:lnTo>
                <a:lnTo>
                  <a:pt x="1576" y="1238"/>
                </a:lnTo>
                <a:lnTo>
                  <a:pt x="1564" y="1216"/>
                </a:lnTo>
                <a:lnTo>
                  <a:pt x="1472" y="1238"/>
                </a:lnTo>
                <a:lnTo>
                  <a:pt x="1521" y="1161"/>
                </a:lnTo>
                <a:lnTo>
                  <a:pt x="1517" y="1156"/>
                </a:lnTo>
                <a:lnTo>
                  <a:pt x="1514" y="1153"/>
                </a:lnTo>
                <a:lnTo>
                  <a:pt x="1510" y="1151"/>
                </a:lnTo>
                <a:lnTo>
                  <a:pt x="1506" y="1152"/>
                </a:lnTo>
                <a:lnTo>
                  <a:pt x="1427" y="1198"/>
                </a:lnTo>
                <a:lnTo>
                  <a:pt x="1433" y="1188"/>
                </a:lnTo>
                <a:lnTo>
                  <a:pt x="1439" y="1177"/>
                </a:lnTo>
                <a:lnTo>
                  <a:pt x="1446" y="1167"/>
                </a:lnTo>
                <a:lnTo>
                  <a:pt x="1452" y="1156"/>
                </a:lnTo>
                <a:lnTo>
                  <a:pt x="1458" y="1147"/>
                </a:lnTo>
                <a:lnTo>
                  <a:pt x="1465" y="1137"/>
                </a:lnTo>
                <a:lnTo>
                  <a:pt x="1472" y="1128"/>
                </a:lnTo>
                <a:lnTo>
                  <a:pt x="1478" y="1117"/>
                </a:lnTo>
                <a:lnTo>
                  <a:pt x="1472" y="1113"/>
                </a:lnTo>
                <a:lnTo>
                  <a:pt x="1468" y="1107"/>
                </a:lnTo>
                <a:lnTo>
                  <a:pt x="1462" y="1102"/>
                </a:lnTo>
                <a:lnTo>
                  <a:pt x="1456" y="1101"/>
                </a:lnTo>
                <a:lnTo>
                  <a:pt x="1385" y="1147"/>
                </a:lnTo>
                <a:lnTo>
                  <a:pt x="1419" y="1073"/>
                </a:lnTo>
                <a:lnTo>
                  <a:pt x="1412" y="1065"/>
                </a:lnTo>
                <a:lnTo>
                  <a:pt x="1404" y="1060"/>
                </a:lnTo>
                <a:lnTo>
                  <a:pt x="1396" y="1055"/>
                </a:lnTo>
                <a:lnTo>
                  <a:pt x="1388" y="1052"/>
                </a:lnTo>
                <a:lnTo>
                  <a:pt x="1324" y="1106"/>
                </a:lnTo>
                <a:lnTo>
                  <a:pt x="1357" y="1030"/>
                </a:lnTo>
                <a:lnTo>
                  <a:pt x="1348" y="1026"/>
                </a:lnTo>
                <a:lnTo>
                  <a:pt x="1340" y="1022"/>
                </a:lnTo>
                <a:lnTo>
                  <a:pt x="1331" y="1016"/>
                </a:lnTo>
                <a:lnTo>
                  <a:pt x="1321" y="1010"/>
                </a:lnTo>
                <a:lnTo>
                  <a:pt x="1312" y="1007"/>
                </a:lnTo>
                <a:lnTo>
                  <a:pt x="1303" y="1006"/>
                </a:lnTo>
                <a:lnTo>
                  <a:pt x="1294" y="1009"/>
                </a:lnTo>
                <a:lnTo>
                  <a:pt x="1286" y="1017"/>
                </a:lnTo>
                <a:lnTo>
                  <a:pt x="1223" y="1048"/>
                </a:lnTo>
                <a:lnTo>
                  <a:pt x="1264" y="993"/>
                </a:lnTo>
                <a:lnTo>
                  <a:pt x="1243" y="985"/>
                </a:lnTo>
                <a:lnTo>
                  <a:pt x="1222" y="977"/>
                </a:lnTo>
                <a:lnTo>
                  <a:pt x="1200" y="970"/>
                </a:lnTo>
                <a:lnTo>
                  <a:pt x="1179" y="964"/>
                </a:lnTo>
                <a:lnTo>
                  <a:pt x="1157" y="959"/>
                </a:lnTo>
                <a:lnTo>
                  <a:pt x="1134" y="957"/>
                </a:lnTo>
                <a:lnTo>
                  <a:pt x="1111" y="955"/>
                </a:lnTo>
                <a:lnTo>
                  <a:pt x="1086" y="955"/>
                </a:lnTo>
                <a:lnTo>
                  <a:pt x="1071" y="970"/>
                </a:lnTo>
                <a:lnTo>
                  <a:pt x="1056" y="982"/>
                </a:lnTo>
                <a:lnTo>
                  <a:pt x="1041" y="994"/>
                </a:lnTo>
                <a:lnTo>
                  <a:pt x="1025" y="1003"/>
                </a:lnTo>
                <a:lnTo>
                  <a:pt x="1009" y="1011"/>
                </a:lnTo>
                <a:lnTo>
                  <a:pt x="992" y="1018"/>
                </a:lnTo>
                <a:lnTo>
                  <a:pt x="975" y="1024"/>
                </a:lnTo>
                <a:lnTo>
                  <a:pt x="957" y="1029"/>
                </a:lnTo>
                <a:lnTo>
                  <a:pt x="938" y="1032"/>
                </a:lnTo>
                <a:lnTo>
                  <a:pt x="919" y="1034"/>
                </a:lnTo>
                <a:lnTo>
                  <a:pt x="899" y="1035"/>
                </a:lnTo>
                <a:lnTo>
                  <a:pt x="878" y="1037"/>
                </a:lnTo>
                <a:lnTo>
                  <a:pt x="857" y="1035"/>
                </a:lnTo>
                <a:lnTo>
                  <a:pt x="835" y="1034"/>
                </a:lnTo>
                <a:lnTo>
                  <a:pt x="812" y="1032"/>
                </a:lnTo>
                <a:lnTo>
                  <a:pt x="789" y="1030"/>
                </a:lnTo>
                <a:lnTo>
                  <a:pt x="767" y="1026"/>
                </a:lnTo>
                <a:lnTo>
                  <a:pt x="747" y="1019"/>
                </a:lnTo>
                <a:lnTo>
                  <a:pt x="726" y="1011"/>
                </a:lnTo>
                <a:lnTo>
                  <a:pt x="706" y="1001"/>
                </a:lnTo>
                <a:lnTo>
                  <a:pt x="688" y="988"/>
                </a:lnTo>
                <a:lnTo>
                  <a:pt x="671" y="974"/>
                </a:lnTo>
                <a:lnTo>
                  <a:pt x="653" y="959"/>
                </a:lnTo>
                <a:lnTo>
                  <a:pt x="637" y="943"/>
                </a:lnTo>
                <a:lnTo>
                  <a:pt x="611" y="944"/>
                </a:lnTo>
                <a:lnTo>
                  <a:pt x="583" y="947"/>
                </a:lnTo>
                <a:lnTo>
                  <a:pt x="558" y="949"/>
                </a:lnTo>
                <a:lnTo>
                  <a:pt x="531" y="953"/>
                </a:lnTo>
                <a:lnTo>
                  <a:pt x="506" y="957"/>
                </a:lnTo>
                <a:lnTo>
                  <a:pt x="480" y="963"/>
                </a:lnTo>
                <a:lnTo>
                  <a:pt x="455" y="969"/>
                </a:lnTo>
                <a:lnTo>
                  <a:pt x="431" y="974"/>
                </a:lnTo>
                <a:lnTo>
                  <a:pt x="407" y="982"/>
                </a:lnTo>
                <a:lnTo>
                  <a:pt x="383" y="991"/>
                </a:lnTo>
                <a:lnTo>
                  <a:pt x="358" y="999"/>
                </a:lnTo>
                <a:lnTo>
                  <a:pt x="335" y="1008"/>
                </a:lnTo>
                <a:lnTo>
                  <a:pt x="311" y="1018"/>
                </a:lnTo>
                <a:lnTo>
                  <a:pt x="288" y="1029"/>
                </a:lnTo>
                <a:lnTo>
                  <a:pt x="266" y="1040"/>
                </a:lnTo>
                <a:lnTo>
                  <a:pt x="243" y="1052"/>
                </a:lnTo>
                <a:lnTo>
                  <a:pt x="229" y="1070"/>
                </a:lnTo>
                <a:lnTo>
                  <a:pt x="213" y="1095"/>
                </a:lnTo>
                <a:lnTo>
                  <a:pt x="196" y="1125"/>
                </a:lnTo>
                <a:lnTo>
                  <a:pt x="177" y="1159"/>
                </a:lnTo>
                <a:lnTo>
                  <a:pt x="159" y="1196"/>
                </a:lnTo>
                <a:lnTo>
                  <a:pt x="139" y="1235"/>
                </a:lnTo>
                <a:lnTo>
                  <a:pt x="120" y="1275"/>
                </a:lnTo>
                <a:lnTo>
                  <a:pt x="100" y="1317"/>
                </a:lnTo>
                <a:lnTo>
                  <a:pt x="82" y="1358"/>
                </a:lnTo>
                <a:lnTo>
                  <a:pt x="63" y="1397"/>
                </a:lnTo>
                <a:lnTo>
                  <a:pt x="47" y="1435"/>
                </a:lnTo>
                <a:lnTo>
                  <a:pt x="32" y="1471"/>
                </a:lnTo>
                <a:lnTo>
                  <a:pt x="21" y="1502"/>
                </a:lnTo>
                <a:lnTo>
                  <a:pt x="10" y="1530"/>
                </a:lnTo>
                <a:lnTo>
                  <a:pt x="4" y="1552"/>
                </a:lnTo>
                <a:lnTo>
                  <a:pt x="0" y="1567"/>
                </a:lnTo>
                <a:lnTo>
                  <a:pt x="0" y="1451"/>
                </a:lnTo>
                <a:lnTo>
                  <a:pt x="10" y="1391"/>
                </a:lnTo>
                <a:lnTo>
                  <a:pt x="23" y="1336"/>
                </a:lnTo>
                <a:lnTo>
                  <a:pt x="39" y="1285"/>
                </a:lnTo>
                <a:lnTo>
                  <a:pt x="57" y="1238"/>
                </a:lnTo>
                <a:lnTo>
                  <a:pt x="77" y="1193"/>
                </a:lnTo>
                <a:lnTo>
                  <a:pt x="99" y="1150"/>
                </a:lnTo>
                <a:lnTo>
                  <a:pt x="122" y="1107"/>
                </a:lnTo>
                <a:lnTo>
                  <a:pt x="148" y="1064"/>
                </a:lnTo>
                <a:lnTo>
                  <a:pt x="169" y="1040"/>
                </a:lnTo>
                <a:lnTo>
                  <a:pt x="192" y="1018"/>
                </a:lnTo>
                <a:lnTo>
                  <a:pt x="218" y="1000"/>
                </a:lnTo>
                <a:lnTo>
                  <a:pt x="243" y="984"/>
                </a:lnTo>
                <a:lnTo>
                  <a:pt x="271" y="970"/>
                </a:lnTo>
                <a:lnTo>
                  <a:pt x="298" y="957"/>
                </a:lnTo>
                <a:lnTo>
                  <a:pt x="327" y="947"/>
                </a:lnTo>
                <a:lnTo>
                  <a:pt x="356" y="938"/>
                </a:lnTo>
                <a:lnTo>
                  <a:pt x="386" y="929"/>
                </a:lnTo>
                <a:lnTo>
                  <a:pt x="416" y="923"/>
                </a:lnTo>
                <a:lnTo>
                  <a:pt x="447" y="917"/>
                </a:lnTo>
                <a:lnTo>
                  <a:pt x="478" y="911"/>
                </a:lnTo>
                <a:lnTo>
                  <a:pt x="509" y="905"/>
                </a:lnTo>
                <a:lnTo>
                  <a:pt x="539" y="900"/>
                </a:lnTo>
                <a:lnTo>
                  <a:pt x="570" y="894"/>
                </a:lnTo>
                <a:lnTo>
                  <a:pt x="600" y="888"/>
                </a:lnTo>
                <a:lnTo>
                  <a:pt x="597" y="843"/>
                </a:lnTo>
                <a:lnTo>
                  <a:pt x="596" y="794"/>
                </a:lnTo>
                <a:lnTo>
                  <a:pt x="599" y="744"/>
                </a:lnTo>
                <a:lnTo>
                  <a:pt x="611" y="703"/>
                </a:lnTo>
                <a:lnTo>
                  <a:pt x="598" y="655"/>
                </a:lnTo>
                <a:lnTo>
                  <a:pt x="585" y="608"/>
                </a:lnTo>
                <a:lnTo>
                  <a:pt x="576" y="560"/>
                </a:lnTo>
                <a:lnTo>
                  <a:pt x="568" y="510"/>
                </a:lnTo>
                <a:lnTo>
                  <a:pt x="566" y="462"/>
                </a:lnTo>
                <a:lnTo>
                  <a:pt x="567" y="412"/>
                </a:lnTo>
                <a:lnTo>
                  <a:pt x="574" y="364"/>
                </a:lnTo>
                <a:lnTo>
                  <a:pt x="588" y="317"/>
                </a:lnTo>
                <a:lnTo>
                  <a:pt x="596" y="291"/>
                </a:lnTo>
                <a:lnTo>
                  <a:pt x="606" y="266"/>
                </a:lnTo>
                <a:lnTo>
                  <a:pt x="616" y="241"/>
                </a:lnTo>
                <a:lnTo>
                  <a:pt x="630" y="215"/>
                </a:lnTo>
                <a:lnTo>
                  <a:pt x="644" y="190"/>
                </a:lnTo>
                <a:lnTo>
                  <a:pt x="660" y="166"/>
                </a:lnTo>
                <a:lnTo>
                  <a:pt x="676" y="142"/>
                </a:lnTo>
                <a:lnTo>
                  <a:pt x="695" y="119"/>
                </a:lnTo>
                <a:lnTo>
                  <a:pt x="714" y="97"/>
                </a:lnTo>
                <a:lnTo>
                  <a:pt x="736" y="77"/>
                </a:lnTo>
                <a:lnTo>
                  <a:pt x="758" y="59"/>
                </a:lnTo>
                <a:lnTo>
                  <a:pt x="781" y="41"/>
                </a:lnTo>
                <a:lnTo>
                  <a:pt x="805" y="28"/>
                </a:lnTo>
                <a:lnTo>
                  <a:pt x="831" y="16"/>
                </a:lnTo>
                <a:lnTo>
                  <a:pt x="857" y="7"/>
                </a:lnTo>
                <a:lnTo>
                  <a:pt x="885" y="0"/>
                </a:lnTo>
                <a:lnTo>
                  <a:pt x="916" y="0"/>
                </a:lnTo>
                <a:lnTo>
                  <a:pt x="948" y="0"/>
                </a:lnTo>
                <a:lnTo>
                  <a:pt x="978" y="2"/>
                </a:lnTo>
                <a:lnTo>
                  <a:pt x="1009" y="4"/>
                </a:lnTo>
                <a:lnTo>
                  <a:pt x="1039" y="8"/>
                </a:lnTo>
                <a:lnTo>
                  <a:pt x="1069" y="14"/>
                </a:lnTo>
                <a:lnTo>
                  <a:pt x="1098" y="21"/>
                </a:lnTo>
                <a:lnTo>
                  <a:pt x="1127" y="29"/>
                </a:lnTo>
                <a:lnTo>
                  <a:pt x="1153" y="39"/>
                </a:lnTo>
                <a:lnTo>
                  <a:pt x="1180" y="52"/>
                </a:lnTo>
                <a:lnTo>
                  <a:pt x="1205" y="67"/>
                </a:lnTo>
                <a:lnTo>
                  <a:pt x="1229" y="83"/>
                </a:lnTo>
                <a:lnTo>
                  <a:pt x="1251" y="102"/>
                </a:lnTo>
                <a:lnTo>
                  <a:pt x="1272" y="123"/>
                </a:lnTo>
                <a:lnTo>
                  <a:pt x="1291" y="148"/>
                </a:lnTo>
                <a:lnTo>
                  <a:pt x="1310" y="175"/>
                </a:lnTo>
                <a:lnTo>
                  <a:pt x="1329" y="213"/>
                </a:lnTo>
                <a:lnTo>
                  <a:pt x="1346" y="253"/>
                </a:lnTo>
                <a:lnTo>
                  <a:pt x="1358" y="294"/>
                </a:lnTo>
                <a:lnTo>
                  <a:pt x="1366" y="336"/>
                </a:lnTo>
                <a:lnTo>
                  <a:pt x="1371" y="379"/>
                </a:lnTo>
                <a:lnTo>
                  <a:pt x="1373" y="421"/>
                </a:lnTo>
                <a:lnTo>
                  <a:pt x="1371" y="465"/>
                </a:lnTo>
                <a:lnTo>
                  <a:pt x="1366" y="508"/>
                </a:lnTo>
                <a:lnTo>
                  <a:pt x="1359" y="551"/>
                </a:lnTo>
                <a:lnTo>
                  <a:pt x="1349" y="593"/>
                </a:lnTo>
                <a:lnTo>
                  <a:pt x="1335" y="635"/>
                </a:lnTo>
                <a:lnTo>
                  <a:pt x="1320" y="676"/>
                </a:lnTo>
                <a:lnTo>
                  <a:pt x="1302" y="715"/>
                </a:lnTo>
                <a:lnTo>
                  <a:pt x="1282" y="752"/>
                </a:lnTo>
                <a:lnTo>
                  <a:pt x="1259" y="789"/>
                </a:lnTo>
                <a:lnTo>
                  <a:pt x="1235" y="822"/>
                </a:lnTo>
                <a:lnTo>
                  <a:pt x="1225" y="833"/>
                </a:lnTo>
                <a:lnTo>
                  <a:pt x="1214" y="842"/>
                </a:lnTo>
                <a:lnTo>
                  <a:pt x="1203" y="851"/>
                </a:lnTo>
                <a:lnTo>
                  <a:pt x="1192" y="860"/>
                </a:lnTo>
                <a:lnTo>
                  <a:pt x="1181" y="868"/>
                </a:lnTo>
                <a:lnTo>
                  <a:pt x="1169" y="878"/>
                </a:lnTo>
                <a:lnTo>
                  <a:pt x="1158" y="885"/>
                </a:lnTo>
                <a:lnTo>
                  <a:pt x="1146" y="893"/>
                </a:lnTo>
                <a:lnTo>
                  <a:pt x="1161" y="896"/>
                </a:lnTo>
                <a:lnTo>
                  <a:pt x="1175" y="900"/>
                </a:lnTo>
                <a:lnTo>
                  <a:pt x="1189" y="904"/>
                </a:lnTo>
                <a:lnTo>
                  <a:pt x="1203" y="909"/>
                </a:lnTo>
                <a:lnTo>
                  <a:pt x="1217" y="915"/>
                </a:lnTo>
                <a:lnTo>
                  <a:pt x="1230" y="920"/>
                </a:lnTo>
                <a:lnTo>
                  <a:pt x="1244" y="926"/>
                </a:lnTo>
                <a:lnTo>
                  <a:pt x="1258" y="932"/>
                </a:lnTo>
                <a:lnTo>
                  <a:pt x="1271" y="938"/>
                </a:lnTo>
                <a:lnTo>
                  <a:pt x="1284" y="943"/>
                </a:lnTo>
                <a:lnTo>
                  <a:pt x="1298" y="950"/>
                </a:lnTo>
                <a:lnTo>
                  <a:pt x="1311" y="956"/>
                </a:lnTo>
                <a:lnTo>
                  <a:pt x="1325" y="962"/>
                </a:lnTo>
                <a:lnTo>
                  <a:pt x="1339" y="966"/>
                </a:lnTo>
                <a:lnTo>
                  <a:pt x="1352" y="972"/>
                </a:lnTo>
                <a:lnTo>
                  <a:pt x="1366" y="977"/>
                </a:lnTo>
                <a:lnTo>
                  <a:pt x="1371" y="938"/>
                </a:lnTo>
                <a:lnTo>
                  <a:pt x="1374" y="901"/>
                </a:lnTo>
                <a:lnTo>
                  <a:pt x="1375" y="863"/>
                </a:lnTo>
                <a:lnTo>
                  <a:pt x="1372" y="822"/>
                </a:lnTo>
                <a:lnTo>
                  <a:pt x="1366" y="817"/>
                </a:lnTo>
                <a:lnTo>
                  <a:pt x="1361" y="812"/>
                </a:lnTo>
                <a:lnTo>
                  <a:pt x="1356" y="806"/>
                </a:lnTo>
                <a:lnTo>
                  <a:pt x="1352" y="800"/>
                </a:lnTo>
                <a:lnTo>
                  <a:pt x="1326" y="720"/>
                </a:lnTo>
                <a:lnTo>
                  <a:pt x="1410" y="745"/>
                </a:lnTo>
                <a:lnTo>
                  <a:pt x="1424" y="749"/>
                </a:lnTo>
                <a:lnTo>
                  <a:pt x="1432" y="751"/>
                </a:lnTo>
                <a:lnTo>
                  <a:pt x="1438" y="751"/>
                </a:lnTo>
                <a:lnTo>
                  <a:pt x="1443" y="744"/>
                </a:lnTo>
                <a:lnTo>
                  <a:pt x="1468" y="749"/>
                </a:lnTo>
                <a:lnTo>
                  <a:pt x="1492" y="752"/>
                </a:lnTo>
                <a:lnTo>
                  <a:pt x="1514" y="757"/>
                </a:lnTo>
                <a:lnTo>
                  <a:pt x="1534" y="759"/>
                </a:lnTo>
                <a:lnTo>
                  <a:pt x="1556" y="762"/>
                </a:lnTo>
                <a:lnTo>
                  <a:pt x="1577" y="764"/>
                </a:lnTo>
                <a:lnTo>
                  <a:pt x="1599" y="765"/>
                </a:lnTo>
                <a:lnTo>
                  <a:pt x="1621" y="764"/>
                </a:lnTo>
                <a:lnTo>
                  <a:pt x="1773" y="897"/>
                </a:lnTo>
                <a:lnTo>
                  <a:pt x="1791" y="1068"/>
                </a:lnTo>
                <a:lnTo>
                  <a:pt x="1804" y="1078"/>
                </a:lnTo>
                <a:lnTo>
                  <a:pt x="1814" y="1088"/>
                </a:lnTo>
                <a:lnTo>
                  <a:pt x="1824" y="1099"/>
                </a:lnTo>
                <a:lnTo>
                  <a:pt x="1834" y="1109"/>
                </a:lnTo>
                <a:lnTo>
                  <a:pt x="1843" y="1118"/>
                </a:lnTo>
                <a:lnTo>
                  <a:pt x="1854" y="1128"/>
                </a:lnTo>
                <a:lnTo>
                  <a:pt x="1865" y="1137"/>
                </a:lnTo>
                <a:lnTo>
                  <a:pt x="1878" y="1145"/>
                </a:lnTo>
                <a:lnTo>
                  <a:pt x="1881" y="1123"/>
                </a:lnTo>
                <a:lnTo>
                  <a:pt x="1878" y="1105"/>
                </a:lnTo>
                <a:lnTo>
                  <a:pt x="1867" y="1088"/>
                </a:lnTo>
                <a:lnTo>
                  <a:pt x="1854" y="1076"/>
                </a:lnTo>
                <a:lnTo>
                  <a:pt x="1845" y="1071"/>
                </a:lnTo>
                <a:lnTo>
                  <a:pt x="1837" y="1067"/>
                </a:lnTo>
                <a:lnTo>
                  <a:pt x="1829" y="1062"/>
                </a:lnTo>
                <a:lnTo>
                  <a:pt x="1822" y="1056"/>
                </a:lnTo>
                <a:lnTo>
                  <a:pt x="1817" y="1050"/>
                </a:lnTo>
                <a:lnTo>
                  <a:pt x="1811" y="1045"/>
                </a:lnTo>
                <a:lnTo>
                  <a:pt x="1809" y="1037"/>
                </a:lnTo>
                <a:lnTo>
                  <a:pt x="1809" y="1027"/>
                </a:lnTo>
                <a:lnTo>
                  <a:pt x="1813" y="1025"/>
                </a:lnTo>
                <a:lnTo>
                  <a:pt x="1818" y="1023"/>
                </a:lnTo>
                <a:lnTo>
                  <a:pt x="1822" y="1020"/>
                </a:lnTo>
                <a:lnTo>
                  <a:pt x="1828" y="1022"/>
                </a:lnTo>
                <a:lnTo>
                  <a:pt x="1852" y="1039"/>
                </a:lnTo>
                <a:lnTo>
                  <a:pt x="1872" y="1057"/>
                </a:lnTo>
                <a:lnTo>
                  <a:pt x="1888" y="1077"/>
                </a:lnTo>
                <a:lnTo>
                  <a:pt x="1898" y="1098"/>
                </a:lnTo>
                <a:lnTo>
                  <a:pt x="1905" y="1122"/>
                </a:lnTo>
                <a:lnTo>
                  <a:pt x="1909" y="1148"/>
                </a:lnTo>
                <a:lnTo>
                  <a:pt x="1907" y="1178"/>
                </a:lnTo>
                <a:lnTo>
                  <a:pt x="1900" y="1212"/>
                </a:lnTo>
                <a:lnTo>
                  <a:pt x="1866" y="1250"/>
                </a:lnTo>
                <a:lnTo>
                  <a:pt x="1888" y="1277"/>
                </a:lnTo>
                <a:lnTo>
                  <a:pt x="1910" y="1306"/>
                </a:lnTo>
                <a:lnTo>
                  <a:pt x="1932" y="1335"/>
                </a:lnTo>
                <a:lnTo>
                  <a:pt x="1953" y="1365"/>
                </a:lnTo>
                <a:lnTo>
                  <a:pt x="1972" y="1395"/>
                </a:lnTo>
                <a:lnTo>
                  <a:pt x="1992" y="1425"/>
                </a:lnTo>
                <a:lnTo>
                  <a:pt x="2010" y="1457"/>
                </a:lnTo>
                <a:lnTo>
                  <a:pt x="2027" y="1488"/>
                </a:lnTo>
                <a:lnTo>
                  <a:pt x="2045" y="1522"/>
                </a:lnTo>
                <a:lnTo>
                  <a:pt x="2060" y="1555"/>
                </a:lnTo>
                <a:lnTo>
                  <a:pt x="2074" y="1591"/>
                </a:lnTo>
                <a:lnTo>
                  <a:pt x="2087" y="1626"/>
                </a:lnTo>
                <a:lnTo>
                  <a:pt x="2099" y="1663"/>
                </a:lnTo>
                <a:lnTo>
                  <a:pt x="2109" y="1701"/>
                </a:lnTo>
                <a:lnTo>
                  <a:pt x="2118" y="1740"/>
                </a:lnTo>
                <a:lnTo>
                  <a:pt x="2125" y="1782"/>
                </a:lnTo>
                <a:lnTo>
                  <a:pt x="1731" y="1782"/>
                </a:lnTo>
                <a:lnTo>
                  <a:pt x="1711" y="1721"/>
                </a:lnTo>
                <a:lnTo>
                  <a:pt x="1590" y="1687"/>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5" name="Freeform 1033"/>
          <p:cNvSpPr/>
          <p:nvPr/>
        </p:nvSpPr>
        <p:spPr>
          <a:xfrm>
            <a:off x="1143000" y="4572000"/>
            <a:ext cx="527040" cy="600120"/>
          </a:xfrm>
          <a:custGeom>
            <a:avLst/>
            <a:gdLst>
              <a:gd name="textAreaLeft" fmla="*/ 0 w 527040"/>
              <a:gd name="textAreaRight" fmla="*/ 527400 w 527040"/>
              <a:gd name="textAreaTop" fmla="*/ 0 h 600120"/>
              <a:gd name="textAreaBottom" fmla="*/ 600480 h 600120"/>
            </a:gdLst>
            <a:ahLst/>
            <a:rect l="textAreaLeft" t="textAreaTop" r="textAreaRight" b="textAreaBottom"/>
            <a:pathLst>
              <a:path w="665" h="756">
                <a:moveTo>
                  <a:pt x="359" y="27"/>
                </a:moveTo>
                <a:lnTo>
                  <a:pt x="373" y="20"/>
                </a:lnTo>
                <a:lnTo>
                  <a:pt x="387" y="14"/>
                </a:lnTo>
                <a:lnTo>
                  <a:pt x="400" y="12"/>
                </a:lnTo>
                <a:lnTo>
                  <a:pt x="413" y="11"/>
                </a:lnTo>
                <a:lnTo>
                  <a:pt x="426" y="11"/>
                </a:lnTo>
                <a:lnTo>
                  <a:pt x="440" y="13"/>
                </a:lnTo>
                <a:lnTo>
                  <a:pt x="453" y="17"/>
                </a:lnTo>
                <a:lnTo>
                  <a:pt x="465" y="21"/>
                </a:lnTo>
                <a:lnTo>
                  <a:pt x="478" y="27"/>
                </a:lnTo>
                <a:lnTo>
                  <a:pt x="489" y="33"/>
                </a:lnTo>
                <a:lnTo>
                  <a:pt x="502" y="41"/>
                </a:lnTo>
                <a:lnTo>
                  <a:pt x="514" y="48"/>
                </a:lnTo>
                <a:lnTo>
                  <a:pt x="525" y="56"/>
                </a:lnTo>
                <a:lnTo>
                  <a:pt x="537" y="64"/>
                </a:lnTo>
                <a:lnTo>
                  <a:pt x="548" y="72"/>
                </a:lnTo>
                <a:lnTo>
                  <a:pt x="559" y="80"/>
                </a:lnTo>
                <a:lnTo>
                  <a:pt x="597" y="120"/>
                </a:lnTo>
                <a:lnTo>
                  <a:pt x="625" y="165"/>
                </a:lnTo>
                <a:lnTo>
                  <a:pt x="645" y="214"/>
                </a:lnTo>
                <a:lnTo>
                  <a:pt x="656" y="265"/>
                </a:lnTo>
                <a:lnTo>
                  <a:pt x="662" y="320"/>
                </a:lnTo>
                <a:lnTo>
                  <a:pt x="665" y="375"/>
                </a:lnTo>
                <a:lnTo>
                  <a:pt x="662" y="430"/>
                </a:lnTo>
                <a:lnTo>
                  <a:pt x="660" y="487"/>
                </a:lnTo>
                <a:lnTo>
                  <a:pt x="653" y="525"/>
                </a:lnTo>
                <a:lnTo>
                  <a:pt x="644" y="561"/>
                </a:lnTo>
                <a:lnTo>
                  <a:pt x="631" y="598"/>
                </a:lnTo>
                <a:lnTo>
                  <a:pt x="615" y="633"/>
                </a:lnTo>
                <a:lnTo>
                  <a:pt x="595" y="666"/>
                </a:lnTo>
                <a:lnTo>
                  <a:pt x="572" y="697"/>
                </a:lnTo>
                <a:lnTo>
                  <a:pt x="547" y="728"/>
                </a:lnTo>
                <a:lnTo>
                  <a:pt x="518" y="756"/>
                </a:lnTo>
                <a:lnTo>
                  <a:pt x="517" y="722"/>
                </a:lnTo>
                <a:lnTo>
                  <a:pt x="514" y="688"/>
                </a:lnTo>
                <a:lnTo>
                  <a:pt x="507" y="656"/>
                </a:lnTo>
                <a:lnTo>
                  <a:pt x="496" y="625"/>
                </a:lnTo>
                <a:lnTo>
                  <a:pt x="483" y="595"/>
                </a:lnTo>
                <a:lnTo>
                  <a:pt x="464" y="567"/>
                </a:lnTo>
                <a:lnTo>
                  <a:pt x="441" y="543"/>
                </a:lnTo>
                <a:lnTo>
                  <a:pt x="412" y="521"/>
                </a:lnTo>
                <a:lnTo>
                  <a:pt x="398" y="513"/>
                </a:lnTo>
                <a:lnTo>
                  <a:pt x="386" y="506"/>
                </a:lnTo>
                <a:lnTo>
                  <a:pt x="373" y="500"/>
                </a:lnTo>
                <a:lnTo>
                  <a:pt x="359" y="495"/>
                </a:lnTo>
                <a:lnTo>
                  <a:pt x="347" y="491"/>
                </a:lnTo>
                <a:lnTo>
                  <a:pt x="334" y="487"/>
                </a:lnTo>
                <a:lnTo>
                  <a:pt x="320" y="484"/>
                </a:lnTo>
                <a:lnTo>
                  <a:pt x="306" y="482"/>
                </a:lnTo>
                <a:lnTo>
                  <a:pt x="292" y="481"/>
                </a:lnTo>
                <a:lnTo>
                  <a:pt x="277" y="480"/>
                </a:lnTo>
                <a:lnTo>
                  <a:pt x="263" y="480"/>
                </a:lnTo>
                <a:lnTo>
                  <a:pt x="248" y="481"/>
                </a:lnTo>
                <a:lnTo>
                  <a:pt x="231" y="481"/>
                </a:lnTo>
                <a:lnTo>
                  <a:pt x="215" y="483"/>
                </a:lnTo>
                <a:lnTo>
                  <a:pt x="198" y="484"/>
                </a:lnTo>
                <a:lnTo>
                  <a:pt x="180" y="487"/>
                </a:lnTo>
                <a:lnTo>
                  <a:pt x="159" y="491"/>
                </a:lnTo>
                <a:lnTo>
                  <a:pt x="139" y="497"/>
                </a:lnTo>
                <a:lnTo>
                  <a:pt x="120" y="506"/>
                </a:lnTo>
                <a:lnTo>
                  <a:pt x="100" y="518"/>
                </a:lnTo>
                <a:lnTo>
                  <a:pt x="82" y="530"/>
                </a:lnTo>
                <a:lnTo>
                  <a:pt x="64" y="544"/>
                </a:lnTo>
                <a:lnTo>
                  <a:pt x="47" y="558"/>
                </a:lnTo>
                <a:lnTo>
                  <a:pt x="31" y="573"/>
                </a:lnTo>
                <a:lnTo>
                  <a:pt x="9" y="511"/>
                </a:lnTo>
                <a:lnTo>
                  <a:pt x="0" y="449"/>
                </a:lnTo>
                <a:lnTo>
                  <a:pt x="2" y="386"/>
                </a:lnTo>
                <a:lnTo>
                  <a:pt x="14" y="324"/>
                </a:lnTo>
                <a:lnTo>
                  <a:pt x="34" y="264"/>
                </a:lnTo>
                <a:lnTo>
                  <a:pt x="62" y="208"/>
                </a:lnTo>
                <a:lnTo>
                  <a:pt x="95" y="155"/>
                </a:lnTo>
                <a:lnTo>
                  <a:pt x="134" y="105"/>
                </a:lnTo>
                <a:lnTo>
                  <a:pt x="145" y="94"/>
                </a:lnTo>
                <a:lnTo>
                  <a:pt x="158" y="82"/>
                </a:lnTo>
                <a:lnTo>
                  <a:pt x="170" y="71"/>
                </a:lnTo>
                <a:lnTo>
                  <a:pt x="183" y="59"/>
                </a:lnTo>
                <a:lnTo>
                  <a:pt x="197" y="48"/>
                </a:lnTo>
                <a:lnTo>
                  <a:pt x="211" y="36"/>
                </a:lnTo>
                <a:lnTo>
                  <a:pt x="225" y="27"/>
                </a:lnTo>
                <a:lnTo>
                  <a:pt x="238" y="18"/>
                </a:lnTo>
                <a:lnTo>
                  <a:pt x="252" y="11"/>
                </a:lnTo>
                <a:lnTo>
                  <a:pt x="267" y="5"/>
                </a:lnTo>
                <a:lnTo>
                  <a:pt x="282" y="2"/>
                </a:lnTo>
                <a:lnTo>
                  <a:pt x="297" y="0"/>
                </a:lnTo>
                <a:lnTo>
                  <a:pt x="312" y="3"/>
                </a:lnTo>
                <a:lnTo>
                  <a:pt x="328" y="7"/>
                </a:lnTo>
                <a:lnTo>
                  <a:pt x="343" y="15"/>
                </a:lnTo>
                <a:lnTo>
                  <a:pt x="359" y="2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6" name="Freeform 1034"/>
          <p:cNvSpPr/>
          <p:nvPr/>
        </p:nvSpPr>
        <p:spPr>
          <a:xfrm>
            <a:off x="1247760" y="4664160"/>
            <a:ext cx="119160" cy="242640"/>
          </a:xfrm>
          <a:custGeom>
            <a:avLst/>
            <a:gdLst>
              <a:gd name="textAreaLeft" fmla="*/ 0 w 119160"/>
              <a:gd name="textAreaRight" fmla="*/ 119520 w 119160"/>
              <a:gd name="textAreaTop" fmla="*/ 0 h 242640"/>
              <a:gd name="textAreaBottom" fmla="*/ 243000 h 242640"/>
            </a:gdLst>
            <a:ahLst/>
            <a:rect l="textAreaLeft" t="textAreaTop" r="textAreaRight" b="textAreaBottom"/>
            <a:pathLst>
              <a:path w="151" h="304">
                <a:moveTo>
                  <a:pt x="151" y="18"/>
                </a:moveTo>
                <a:lnTo>
                  <a:pt x="125" y="48"/>
                </a:lnTo>
                <a:lnTo>
                  <a:pt x="99" y="81"/>
                </a:lnTo>
                <a:lnTo>
                  <a:pt x="75" y="113"/>
                </a:lnTo>
                <a:lnTo>
                  <a:pt x="53" y="146"/>
                </a:lnTo>
                <a:lnTo>
                  <a:pt x="36" y="181"/>
                </a:lnTo>
                <a:lnTo>
                  <a:pt x="24" y="219"/>
                </a:lnTo>
                <a:lnTo>
                  <a:pt x="19" y="258"/>
                </a:lnTo>
                <a:lnTo>
                  <a:pt x="22" y="299"/>
                </a:lnTo>
                <a:lnTo>
                  <a:pt x="15" y="304"/>
                </a:lnTo>
                <a:lnTo>
                  <a:pt x="9" y="304"/>
                </a:lnTo>
                <a:lnTo>
                  <a:pt x="5" y="301"/>
                </a:lnTo>
                <a:lnTo>
                  <a:pt x="0" y="295"/>
                </a:lnTo>
                <a:lnTo>
                  <a:pt x="0" y="251"/>
                </a:lnTo>
                <a:lnTo>
                  <a:pt x="3" y="208"/>
                </a:lnTo>
                <a:lnTo>
                  <a:pt x="8" y="166"/>
                </a:lnTo>
                <a:lnTo>
                  <a:pt x="20" y="124"/>
                </a:lnTo>
                <a:lnTo>
                  <a:pt x="36" y="86"/>
                </a:lnTo>
                <a:lnTo>
                  <a:pt x="58" y="52"/>
                </a:lnTo>
                <a:lnTo>
                  <a:pt x="87" y="23"/>
                </a:lnTo>
                <a:lnTo>
                  <a:pt x="123" y="0"/>
                </a:lnTo>
                <a:lnTo>
                  <a:pt x="132" y="2"/>
                </a:lnTo>
                <a:lnTo>
                  <a:pt x="140" y="5"/>
                </a:lnTo>
                <a:lnTo>
                  <a:pt x="146" y="9"/>
                </a:lnTo>
                <a:lnTo>
                  <a:pt x="151" y="18"/>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7" name="Freeform 1035"/>
          <p:cNvSpPr/>
          <p:nvPr/>
        </p:nvSpPr>
        <p:spPr>
          <a:xfrm>
            <a:off x="1173240" y="4987800"/>
            <a:ext cx="349200" cy="317520"/>
          </a:xfrm>
          <a:custGeom>
            <a:avLst/>
            <a:gdLst>
              <a:gd name="textAreaLeft" fmla="*/ 0 w 349200"/>
              <a:gd name="textAreaRight" fmla="*/ 349560 w 349200"/>
              <a:gd name="textAreaTop" fmla="*/ 0 h 317520"/>
              <a:gd name="textAreaBottom" fmla="*/ 317880 h 317520"/>
            </a:gdLst>
            <a:ahLst/>
            <a:rect l="textAreaLeft" t="textAreaTop" r="textAreaRight" b="textAreaBottom"/>
            <a:pathLst>
              <a:path w="440" h="398">
                <a:moveTo>
                  <a:pt x="154" y="0"/>
                </a:moveTo>
                <a:lnTo>
                  <a:pt x="131" y="15"/>
                </a:lnTo>
                <a:lnTo>
                  <a:pt x="112" y="32"/>
                </a:lnTo>
                <a:lnTo>
                  <a:pt x="97" y="52"/>
                </a:lnTo>
                <a:lnTo>
                  <a:pt x="84" y="72"/>
                </a:lnTo>
                <a:lnTo>
                  <a:pt x="74" y="95"/>
                </a:lnTo>
                <a:lnTo>
                  <a:pt x="66" y="118"/>
                </a:lnTo>
                <a:lnTo>
                  <a:pt x="60" y="144"/>
                </a:lnTo>
                <a:lnTo>
                  <a:pt x="55" y="168"/>
                </a:lnTo>
                <a:lnTo>
                  <a:pt x="56" y="188"/>
                </a:lnTo>
                <a:lnTo>
                  <a:pt x="61" y="206"/>
                </a:lnTo>
                <a:lnTo>
                  <a:pt x="68" y="223"/>
                </a:lnTo>
                <a:lnTo>
                  <a:pt x="77" y="241"/>
                </a:lnTo>
                <a:lnTo>
                  <a:pt x="89" y="255"/>
                </a:lnTo>
                <a:lnTo>
                  <a:pt x="101" y="270"/>
                </a:lnTo>
                <a:lnTo>
                  <a:pt x="116" y="283"/>
                </a:lnTo>
                <a:lnTo>
                  <a:pt x="132" y="295"/>
                </a:lnTo>
                <a:lnTo>
                  <a:pt x="161" y="302"/>
                </a:lnTo>
                <a:lnTo>
                  <a:pt x="187" y="306"/>
                </a:lnTo>
                <a:lnTo>
                  <a:pt x="211" y="308"/>
                </a:lnTo>
                <a:lnTo>
                  <a:pt x="233" y="308"/>
                </a:lnTo>
                <a:lnTo>
                  <a:pt x="253" y="305"/>
                </a:lnTo>
                <a:lnTo>
                  <a:pt x="273" y="298"/>
                </a:lnTo>
                <a:lnTo>
                  <a:pt x="291" y="288"/>
                </a:lnTo>
                <a:lnTo>
                  <a:pt x="310" y="274"/>
                </a:lnTo>
                <a:lnTo>
                  <a:pt x="326" y="260"/>
                </a:lnTo>
                <a:lnTo>
                  <a:pt x="339" y="245"/>
                </a:lnTo>
                <a:lnTo>
                  <a:pt x="349" y="228"/>
                </a:lnTo>
                <a:lnTo>
                  <a:pt x="357" y="211"/>
                </a:lnTo>
                <a:lnTo>
                  <a:pt x="362" y="192"/>
                </a:lnTo>
                <a:lnTo>
                  <a:pt x="364" y="174"/>
                </a:lnTo>
                <a:lnTo>
                  <a:pt x="363" y="154"/>
                </a:lnTo>
                <a:lnTo>
                  <a:pt x="359" y="135"/>
                </a:lnTo>
                <a:lnTo>
                  <a:pt x="356" y="126"/>
                </a:lnTo>
                <a:lnTo>
                  <a:pt x="352" y="120"/>
                </a:lnTo>
                <a:lnTo>
                  <a:pt x="347" y="113"/>
                </a:lnTo>
                <a:lnTo>
                  <a:pt x="341" y="106"/>
                </a:lnTo>
                <a:lnTo>
                  <a:pt x="334" y="99"/>
                </a:lnTo>
                <a:lnTo>
                  <a:pt x="326" y="93"/>
                </a:lnTo>
                <a:lnTo>
                  <a:pt x="319" y="88"/>
                </a:lnTo>
                <a:lnTo>
                  <a:pt x="312" y="84"/>
                </a:lnTo>
                <a:lnTo>
                  <a:pt x="295" y="83"/>
                </a:lnTo>
                <a:lnTo>
                  <a:pt x="278" y="82"/>
                </a:lnTo>
                <a:lnTo>
                  <a:pt x="260" y="82"/>
                </a:lnTo>
                <a:lnTo>
                  <a:pt x="243" y="84"/>
                </a:lnTo>
                <a:lnTo>
                  <a:pt x="227" y="88"/>
                </a:lnTo>
                <a:lnTo>
                  <a:pt x="213" y="97"/>
                </a:lnTo>
                <a:lnTo>
                  <a:pt x="201" y="108"/>
                </a:lnTo>
                <a:lnTo>
                  <a:pt x="192" y="124"/>
                </a:lnTo>
                <a:lnTo>
                  <a:pt x="189" y="144"/>
                </a:lnTo>
                <a:lnTo>
                  <a:pt x="188" y="161"/>
                </a:lnTo>
                <a:lnTo>
                  <a:pt x="192" y="178"/>
                </a:lnTo>
                <a:lnTo>
                  <a:pt x="204" y="192"/>
                </a:lnTo>
                <a:lnTo>
                  <a:pt x="214" y="197"/>
                </a:lnTo>
                <a:lnTo>
                  <a:pt x="223" y="199"/>
                </a:lnTo>
                <a:lnTo>
                  <a:pt x="233" y="200"/>
                </a:lnTo>
                <a:lnTo>
                  <a:pt x="241" y="200"/>
                </a:lnTo>
                <a:lnTo>
                  <a:pt x="248" y="199"/>
                </a:lnTo>
                <a:lnTo>
                  <a:pt x="254" y="196"/>
                </a:lnTo>
                <a:lnTo>
                  <a:pt x="261" y="192"/>
                </a:lnTo>
                <a:lnTo>
                  <a:pt x="269" y="186"/>
                </a:lnTo>
                <a:lnTo>
                  <a:pt x="269" y="174"/>
                </a:lnTo>
                <a:lnTo>
                  <a:pt x="267" y="161"/>
                </a:lnTo>
                <a:lnTo>
                  <a:pt x="263" y="150"/>
                </a:lnTo>
                <a:lnTo>
                  <a:pt x="254" y="139"/>
                </a:lnTo>
                <a:lnTo>
                  <a:pt x="253" y="155"/>
                </a:lnTo>
                <a:lnTo>
                  <a:pt x="249" y="167"/>
                </a:lnTo>
                <a:lnTo>
                  <a:pt x="241" y="174"/>
                </a:lnTo>
                <a:lnTo>
                  <a:pt x="228" y="175"/>
                </a:lnTo>
                <a:lnTo>
                  <a:pt x="221" y="168"/>
                </a:lnTo>
                <a:lnTo>
                  <a:pt x="218" y="160"/>
                </a:lnTo>
                <a:lnTo>
                  <a:pt x="216" y="150"/>
                </a:lnTo>
                <a:lnTo>
                  <a:pt x="216" y="139"/>
                </a:lnTo>
                <a:lnTo>
                  <a:pt x="221" y="133"/>
                </a:lnTo>
                <a:lnTo>
                  <a:pt x="227" y="130"/>
                </a:lnTo>
                <a:lnTo>
                  <a:pt x="234" y="125"/>
                </a:lnTo>
                <a:lnTo>
                  <a:pt x="241" y="122"/>
                </a:lnTo>
                <a:lnTo>
                  <a:pt x="249" y="120"/>
                </a:lnTo>
                <a:lnTo>
                  <a:pt x="256" y="117"/>
                </a:lnTo>
                <a:lnTo>
                  <a:pt x="264" y="116"/>
                </a:lnTo>
                <a:lnTo>
                  <a:pt x="272" y="115"/>
                </a:lnTo>
                <a:lnTo>
                  <a:pt x="280" y="116"/>
                </a:lnTo>
                <a:lnTo>
                  <a:pt x="288" y="118"/>
                </a:lnTo>
                <a:lnTo>
                  <a:pt x="296" y="122"/>
                </a:lnTo>
                <a:lnTo>
                  <a:pt x="304" y="126"/>
                </a:lnTo>
                <a:lnTo>
                  <a:pt x="311" y="132"/>
                </a:lnTo>
                <a:lnTo>
                  <a:pt x="316" y="139"/>
                </a:lnTo>
                <a:lnTo>
                  <a:pt x="320" y="147"/>
                </a:lnTo>
                <a:lnTo>
                  <a:pt x="321" y="155"/>
                </a:lnTo>
                <a:lnTo>
                  <a:pt x="322" y="176"/>
                </a:lnTo>
                <a:lnTo>
                  <a:pt x="319" y="193"/>
                </a:lnTo>
                <a:lnTo>
                  <a:pt x="311" y="209"/>
                </a:lnTo>
                <a:lnTo>
                  <a:pt x="303" y="223"/>
                </a:lnTo>
                <a:lnTo>
                  <a:pt x="286" y="239"/>
                </a:lnTo>
                <a:lnTo>
                  <a:pt x="267" y="252"/>
                </a:lnTo>
                <a:lnTo>
                  <a:pt x="248" y="259"/>
                </a:lnTo>
                <a:lnTo>
                  <a:pt x="227" y="264"/>
                </a:lnTo>
                <a:lnTo>
                  <a:pt x="205" y="265"/>
                </a:lnTo>
                <a:lnTo>
                  <a:pt x="184" y="261"/>
                </a:lnTo>
                <a:lnTo>
                  <a:pt x="165" y="257"/>
                </a:lnTo>
                <a:lnTo>
                  <a:pt x="146" y="249"/>
                </a:lnTo>
                <a:lnTo>
                  <a:pt x="134" y="237"/>
                </a:lnTo>
                <a:lnTo>
                  <a:pt x="123" y="223"/>
                </a:lnTo>
                <a:lnTo>
                  <a:pt x="115" y="209"/>
                </a:lnTo>
                <a:lnTo>
                  <a:pt x="109" y="194"/>
                </a:lnTo>
                <a:lnTo>
                  <a:pt x="106" y="178"/>
                </a:lnTo>
                <a:lnTo>
                  <a:pt x="104" y="162"/>
                </a:lnTo>
                <a:lnTo>
                  <a:pt x="105" y="145"/>
                </a:lnTo>
                <a:lnTo>
                  <a:pt x="108" y="128"/>
                </a:lnTo>
                <a:lnTo>
                  <a:pt x="116" y="109"/>
                </a:lnTo>
                <a:lnTo>
                  <a:pt x="128" y="91"/>
                </a:lnTo>
                <a:lnTo>
                  <a:pt x="140" y="72"/>
                </a:lnTo>
                <a:lnTo>
                  <a:pt x="154" y="55"/>
                </a:lnTo>
                <a:lnTo>
                  <a:pt x="170" y="39"/>
                </a:lnTo>
                <a:lnTo>
                  <a:pt x="189" y="26"/>
                </a:lnTo>
                <a:lnTo>
                  <a:pt x="207" y="18"/>
                </a:lnTo>
                <a:lnTo>
                  <a:pt x="228" y="14"/>
                </a:lnTo>
                <a:lnTo>
                  <a:pt x="243" y="14"/>
                </a:lnTo>
                <a:lnTo>
                  <a:pt x="258" y="15"/>
                </a:lnTo>
                <a:lnTo>
                  <a:pt x="273" y="16"/>
                </a:lnTo>
                <a:lnTo>
                  <a:pt x="287" y="18"/>
                </a:lnTo>
                <a:lnTo>
                  <a:pt x="301" y="23"/>
                </a:lnTo>
                <a:lnTo>
                  <a:pt x="314" y="26"/>
                </a:lnTo>
                <a:lnTo>
                  <a:pt x="327" y="32"/>
                </a:lnTo>
                <a:lnTo>
                  <a:pt x="340" y="39"/>
                </a:lnTo>
                <a:lnTo>
                  <a:pt x="351" y="46"/>
                </a:lnTo>
                <a:lnTo>
                  <a:pt x="364" y="55"/>
                </a:lnTo>
                <a:lnTo>
                  <a:pt x="374" y="64"/>
                </a:lnTo>
                <a:lnTo>
                  <a:pt x="385" y="75"/>
                </a:lnTo>
                <a:lnTo>
                  <a:pt x="395" y="86"/>
                </a:lnTo>
                <a:lnTo>
                  <a:pt x="404" y="99"/>
                </a:lnTo>
                <a:lnTo>
                  <a:pt x="412" y="113"/>
                </a:lnTo>
                <a:lnTo>
                  <a:pt x="420" y="128"/>
                </a:lnTo>
                <a:lnTo>
                  <a:pt x="434" y="167"/>
                </a:lnTo>
                <a:lnTo>
                  <a:pt x="440" y="208"/>
                </a:lnTo>
                <a:lnTo>
                  <a:pt x="435" y="250"/>
                </a:lnTo>
                <a:lnTo>
                  <a:pt x="420" y="290"/>
                </a:lnTo>
                <a:lnTo>
                  <a:pt x="407" y="307"/>
                </a:lnTo>
                <a:lnTo>
                  <a:pt x="392" y="323"/>
                </a:lnTo>
                <a:lnTo>
                  <a:pt x="377" y="337"/>
                </a:lnTo>
                <a:lnTo>
                  <a:pt x="362" y="350"/>
                </a:lnTo>
                <a:lnTo>
                  <a:pt x="347" y="361"/>
                </a:lnTo>
                <a:lnTo>
                  <a:pt x="329" y="372"/>
                </a:lnTo>
                <a:lnTo>
                  <a:pt x="312" y="380"/>
                </a:lnTo>
                <a:lnTo>
                  <a:pt x="295" y="387"/>
                </a:lnTo>
                <a:lnTo>
                  <a:pt x="275" y="391"/>
                </a:lnTo>
                <a:lnTo>
                  <a:pt x="256" y="396"/>
                </a:lnTo>
                <a:lnTo>
                  <a:pt x="234" y="397"/>
                </a:lnTo>
                <a:lnTo>
                  <a:pt x="211" y="398"/>
                </a:lnTo>
                <a:lnTo>
                  <a:pt x="187" y="396"/>
                </a:lnTo>
                <a:lnTo>
                  <a:pt x="161" y="394"/>
                </a:lnTo>
                <a:lnTo>
                  <a:pt x="134" y="389"/>
                </a:lnTo>
                <a:lnTo>
                  <a:pt x="105" y="382"/>
                </a:lnTo>
                <a:lnTo>
                  <a:pt x="75" y="366"/>
                </a:lnTo>
                <a:lnTo>
                  <a:pt x="51" y="348"/>
                </a:lnTo>
                <a:lnTo>
                  <a:pt x="32" y="326"/>
                </a:lnTo>
                <a:lnTo>
                  <a:pt x="18" y="303"/>
                </a:lnTo>
                <a:lnTo>
                  <a:pt x="9" y="277"/>
                </a:lnTo>
                <a:lnTo>
                  <a:pt x="3" y="250"/>
                </a:lnTo>
                <a:lnTo>
                  <a:pt x="0" y="222"/>
                </a:lnTo>
                <a:lnTo>
                  <a:pt x="0" y="192"/>
                </a:lnTo>
                <a:lnTo>
                  <a:pt x="1" y="164"/>
                </a:lnTo>
                <a:lnTo>
                  <a:pt x="7" y="138"/>
                </a:lnTo>
                <a:lnTo>
                  <a:pt x="16" y="113"/>
                </a:lnTo>
                <a:lnTo>
                  <a:pt x="28" y="88"/>
                </a:lnTo>
                <a:lnTo>
                  <a:pt x="43" y="67"/>
                </a:lnTo>
                <a:lnTo>
                  <a:pt x="61" y="47"/>
                </a:lnTo>
                <a:lnTo>
                  <a:pt x="82" y="30"/>
                </a:lnTo>
                <a:lnTo>
                  <a:pt x="105" y="16"/>
                </a:lnTo>
                <a:lnTo>
                  <a:pt x="110" y="14"/>
                </a:lnTo>
                <a:lnTo>
                  <a:pt x="116" y="11"/>
                </a:lnTo>
                <a:lnTo>
                  <a:pt x="123" y="9"/>
                </a:lnTo>
                <a:lnTo>
                  <a:pt x="129" y="6"/>
                </a:lnTo>
                <a:lnTo>
                  <a:pt x="135" y="4"/>
                </a:lnTo>
                <a:lnTo>
                  <a:pt x="142" y="2"/>
                </a:lnTo>
                <a:lnTo>
                  <a:pt x="147" y="1"/>
                </a:lnTo>
                <a:lnTo>
                  <a:pt x="154" y="0"/>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8" name="Freeform 1036"/>
          <p:cNvSpPr/>
          <p:nvPr/>
        </p:nvSpPr>
        <p:spPr>
          <a:xfrm>
            <a:off x="1738440" y="5135400"/>
            <a:ext cx="371520" cy="344520"/>
          </a:xfrm>
          <a:custGeom>
            <a:avLst/>
            <a:gdLst>
              <a:gd name="textAreaLeft" fmla="*/ 0 w 371520"/>
              <a:gd name="textAreaRight" fmla="*/ 371880 w 371520"/>
              <a:gd name="textAreaTop" fmla="*/ 0 h 344520"/>
              <a:gd name="textAreaBottom" fmla="*/ 344880 h 344520"/>
            </a:gdLst>
            <a:ahLst/>
            <a:rect l="textAreaLeft" t="textAreaTop" r="textAreaRight" b="textAreaBottom"/>
            <a:pathLst>
              <a:path w="468" h="435">
                <a:moveTo>
                  <a:pt x="468" y="394"/>
                </a:moveTo>
                <a:lnTo>
                  <a:pt x="458" y="399"/>
                </a:lnTo>
                <a:lnTo>
                  <a:pt x="450" y="403"/>
                </a:lnTo>
                <a:lnTo>
                  <a:pt x="445" y="408"/>
                </a:lnTo>
                <a:lnTo>
                  <a:pt x="439" y="412"/>
                </a:lnTo>
                <a:lnTo>
                  <a:pt x="435" y="417"/>
                </a:lnTo>
                <a:lnTo>
                  <a:pt x="432" y="423"/>
                </a:lnTo>
                <a:lnTo>
                  <a:pt x="428" y="429"/>
                </a:lnTo>
                <a:lnTo>
                  <a:pt x="426" y="435"/>
                </a:lnTo>
                <a:lnTo>
                  <a:pt x="108" y="130"/>
                </a:lnTo>
                <a:lnTo>
                  <a:pt x="107" y="119"/>
                </a:lnTo>
                <a:lnTo>
                  <a:pt x="104" y="107"/>
                </a:lnTo>
                <a:lnTo>
                  <a:pt x="99" y="97"/>
                </a:lnTo>
                <a:lnTo>
                  <a:pt x="92" y="86"/>
                </a:lnTo>
                <a:lnTo>
                  <a:pt x="84" y="77"/>
                </a:lnTo>
                <a:lnTo>
                  <a:pt x="76" y="70"/>
                </a:lnTo>
                <a:lnTo>
                  <a:pt x="66" y="63"/>
                </a:lnTo>
                <a:lnTo>
                  <a:pt x="55" y="59"/>
                </a:lnTo>
                <a:lnTo>
                  <a:pt x="47" y="55"/>
                </a:lnTo>
                <a:lnTo>
                  <a:pt x="38" y="52"/>
                </a:lnTo>
                <a:lnTo>
                  <a:pt x="28" y="48"/>
                </a:lnTo>
                <a:lnTo>
                  <a:pt x="20" y="44"/>
                </a:lnTo>
                <a:lnTo>
                  <a:pt x="11" y="39"/>
                </a:lnTo>
                <a:lnTo>
                  <a:pt x="5" y="32"/>
                </a:lnTo>
                <a:lnTo>
                  <a:pt x="1" y="24"/>
                </a:lnTo>
                <a:lnTo>
                  <a:pt x="0" y="15"/>
                </a:lnTo>
                <a:lnTo>
                  <a:pt x="7" y="5"/>
                </a:lnTo>
                <a:lnTo>
                  <a:pt x="16" y="0"/>
                </a:lnTo>
                <a:lnTo>
                  <a:pt x="25" y="0"/>
                </a:lnTo>
                <a:lnTo>
                  <a:pt x="35" y="4"/>
                </a:lnTo>
                <a:lnTo>
                  <a:pt x="44" y="9"/>
                </a:lnTo>
                <a:lnTo>
                  <a:pt x="49" y="14"/>
                </a:lnTo>
                <a:lnTo>
                  <a:pt x="54" y="17"/>
                </a:lnTo>
                <a:lnTo>
                  <a:pt x="55" y="17"/>
                </a:lnTo>
                <a:lnTo>
                  <a:pt x="61" y="28"/>
                </a:lnTo>
                <a:lnTo>
                  <a:pt x="68" y="38"/>
                </a:lnTo>
                <a:lnTo>
                  <a:pt x="76" y="46"/>
                </a:lnTo>
                <a:lnTo>
                  <a:pt x="83" y="54"/>
                </a:lnTo>
                <a:lnTo>
                  <a:pt x="91" y="61"/>
                </a:lnTo>
                <a:lnTo>
                  <a:pt x="100" y="68"/>
                </a:lnTo>
                <a:lnTo>
                  <a:pt x="108" y="74"/>
                </a:lnTo>
                <a:lnTo>
                  <a:pt x="117" y="80"/>
                </a:lnTo>
                <a:lnTo>
                  <a:pt x="468"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9" name="Freeform 1037"/>
          <p:cNvSpPr/>
          <p:nvPr/>
        </p:nvSpPr>
        <p:spPr>
          <a:xfrm>
            <a:off x="1833480" y="5151600"/>
            <a:ext cx="195480" cy="182520"/>
          </a:xfrm>
          <a:custGeom>
            <a:avLst/>
            <a:gdLst>
              <a:gd name="textAreaLeft" fmla="*/ 0 w 195480"/>
              <a:gd name="textAreaRight" fmla="*/ 195840 w 195480"/>
              <a:gd name="textAreaTop" fmla="*/ 0 h 182520"/>
              <a:gd name="textAreaBottom" fmla="*/ 182520 h 182520"/>
            </a:gdLst>
            <a:ahLst/>
            <a:rect l="textAreaLeft" t="textAreaTop" r="textAreaRight" b="textAreaBottom"/>
            <a:pathLst>
              <a:path w="245" h="228">
                <a:moveTo>
                  <a:pt x="245" y="130"/>
                </a:moveTo>
                <a:lnTo>
                  <a:pt x="243" y="228"/>
                </a:lnTo>
                <a:lnTo>
                  <a:pt x="223" y="211"/>
                </a:lnTo>
                <a:lnTo>
                  <a:pt x="201" y="193"/>
                </a:lnTo>
                <a:lnTo>
                  <a:pt x="178" y="176"/>
                </a:lnTo>
                <a:lnTo>
                  <a:pt x="158" y="158"/>
                </a:lnTo>
                <a:lnTo>
                  <a:pt x="139" y="139"/>
                </a:lnTo>
                <a:lnTo>
                  <a:pt x="124" y="117"/>
                </a:lnTo>
                <a:lnTo>
                  <a:pt x="116" y="92"/>
                </a:lnTo>
                <a:lnTo>
                  <a:pt x="115" y="64"/>
                </a:lnTo>
                <a:lnTo>
                  <a:pt x="109" y="59"/>
                </a:lnTo>
                <a:lnTo>
                  <a:pt x="101" y="56"/>
                </a:lnTo>
                <a:lnTo>
                  <a:pt x="93" y="56"/>
                </a:lnTo>
                <a:lnTo>
                  <a:pt x="84" y="55"/>
                </a:lnTo>
                <a:lnTo>
                  <a:pt x="69" y="52"/>
                </a:lnTo>
                <a:lnTo>
                  <a:pt x="55" y="49"/>
                </a:lnTo>
                <a:lnTo>
                  <a:pt x="41" y="45"/>
                </a:lnTo>
                <a:lnTo>
                  <a:pt x="30" y="40"/>
                </a:lnTo>
                <a:lnTo>
                  <a:pt x="19" y="33"/>
                </a:lnTo>
                <a:lnTo>
                  <a:pt x="10" y="25"/>
                </a:lnTo>
                <a:lnTo>
                  <a:pt x="4" y="14"/>
                </a:lnTo>
                <a:lnTo>
                  <a:pt x="0" y="0"/>
                </a:lnTo>
                <a:lnTo>
                  <a:pt x="113" y="15"/>
                </a:lnTo>
                <a:lnTo>
                  <a:pt x="245" y="13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0" name="Freeform 1038"/>
          <p:cNvSpPr/>
          <p:nvPr/>
        </p:nvSpPr>
        <p:spPr>
          <a:xfrm>
            <a:off x="1768320" y="52084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5" h="370">
                <a:moveTo>
                  <a:pt x="31" y="19"/>
                </a:moveTo>
                <a:lnTo>
                  <a:pt x="32" y="54"/>
                </a:lnTo>
                <a:lnTo>
                  <a:pt x="38" y="88"/>
                </a:lnTo>
                <a:lnTo>
                  <a:pt x="45" y="120"/>
                </a:lnTo>
                <a:lnTo>
                  <a:pt x="52" y="153"/>
                </a:lnTo>
                <a:lnTo>
                  <a:pt x="59" y="156"/>
                </a:lnTo>
                <a:lnTo>
                  <a:pt x="65" y="155"/>
                </a:lnTo>
                <a:lnTo>
                  <a:pt x="72" y="153"/>
                </a:lnTo>
                <a:lnTo>
                  <a:pt x="78" y="153"/>
                </a:lnTo>
                <a:lnTo>
                  <a:pt x="80" y="149"/>
                </a:lnTo>
                <a:lnTo>
                  <a:pt x="84" y="145"/>
                </a:lnTo>
                <a:lnTo>
                  <a:pt x="89" y="143"/>
                </a:lnTo>
                <a:lnTo>
                  <a:pt x="94" y="140"/>
                </a:lnTo>
                <a:lnTo>
                  <a:pt x="100" y="138"/>
                </a:lnTo>
                <a:lnTo>
                  <a:pt x="106" y="136"/>
                </a:lnTo>
                <a:lnTo>
                  <a:pt x="112" y="135"/>
                </a:lnTo>
                <a:lnTo>
                  <a:pt x="117" y="134"/>
                </a:lnTo>
                <a:lnTo>
                  <a:pt x="136" y="140"/>
                </a:lnTo>
                <a:lnTo>
                  <a:pt x="335" y="329"/>
                </a:lnTo>
                <a:lnTo>
                  <a:pt x="322" y="334"/>
                </a:lnTo>
                <a:lnTo>
                  <a:pt x="310" y="339"/>
                </a:lnTo>
                <a:lnTo>
                  <a:pt x="296" y="342"/>
                </a:lnTo>
                <a:lnTo>
                  <a:pt x="282" y="346"/>
                </a:lnTo>
                <a:lnTo>
                  <a:pt x="268" y="349"/>
                </a:lnTo>
                <a:lnTo>
                  <a:pt x="256" y="354"/>
                </a:lnTo>
                <a:lnTo>
                  <a:pt x="244" y="361"/>
                </a:lnTo>
                <a:lnTo>
                  <a:pt x="232" y="370"/>
                </a:lnTo>
                <a:lnTo>
                  <a:pt x="221" y="354"/>
                </a:lnTo>
                <a:lnTo>
                  <a:pt x="208" y="337"/>
                </a:lnTo>
                <a:lnTo>
                  <a:pt x="196" y="320"/>
                </a:lnTo>
                <a:lnTo>
                  <a:pt x="183" y="304"/>
                </a:lnTo>
                <a:lnTo>
                  <a:pt x="169" y="289"/>
                </a:lnTo>
                <a:lnTo>
                  <a:pt x="155" y="273"/>
                </a:lnTo>
                <a:lnTo>
                  <a:pt x="141" y="258"/>
                </a:lnTo>
                <a:lnTo>
                  <a:pt x="127" y="243"/>
                </a:lnTo>
                <a:lnTo>
                  <a:pt x="113" y="228"/>
                </a:lnTo>
                <a:lnTo>
                  <a:pt x="97" y="214"/>
                </a:lnTo>
                <a:lnTo>
                  <a:pt x="82" y="201"/>
                </a:lnTo>
                <a:lnTo>
                  <a:pt x="65" y="188"/>
                </a:lnTo>
                <a:lnTo>
                  <a:pt x="49" y="174"/>
                </a:lnTo>
                <a:lnTo>
                  <a:pt x="33" y="163"/>
                </a:lnTo>
                <a:lnTo>
                  <a:pt x="17" y="151"/>
                </a:lnTo>
                <a:lnTo>
                  <a:pt x="0" y="140"/>
                </a:lnTo>
                <a:lnTo>
                  <a:pt x="0" y="0"/>
                </a:lnTo>
                <a:lnTo>
                  <a:pt x="8" y="5"/>
                </a:lnTo>
                <a:lnTo>
                  <a:pt x="17" y="7"/>
                </a:lnTo>
                <a:lnTo>
                  <a:pt x="25" y="12"/>
                </a:lnTo>
                <a:lnTo>
                  <a:pt x="31" y="1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1" name="Freeform 1039"/>
          <p:cNvSpPr/>
          <p:nvPr/>
        </p:nvSpPr>
        <p:spPr>
          <a:xfrm>
            <a:off x="2093760" y="5464080"/>
            <a:ext cx="38160" cy="34920"/>
          </a:xfrm>
          <a:custGeom>
            <a:avLst/>
            <a:gdLst>
              <a:gd name="textAreaLeft" fmla="*/ 0 w 38160"/>
              <a:gd name="textAreaRight" fmla="*/ 38520 w 38160"/>
              <a:gd name="textAreaTop" fmla="*/ 0 h 34920"/>
              <a:gd name="textAreaBottom" fmla="*/ 34920 h 34920"/>
            </a:gdLst>
            <a:ahLst/>
            <a:rect l="textAreaLeft" t="textAreaTop" r="textAreaRight" b="textAreaBottom"/>
            <a:pathLst>
              <a:path w="48" h="44">
                <a:moveTo>
                  <a:pt x="45" y="0"/>
                </a:moveTo>
                <a:lnTo>
                  <a:pt x="48" y="9"/>
                </a:lnTo>
                <a:lnTo>
                  <a:pt x="48" y="16"/>
                </a:lnTo>
                <a:lnTo>
                  <a:pt x="46" y="24"/>
                </a:lnTo>
                <a:lnTo>
                  <a:pt x="43" y="33"/>
                </a:lnTo>
                <a:lnTo>
                  <a:pt x="39" y="39"/>
                </a:lnTo>
                <a:lnTo>
                  <a:pt x="34" y="43"/>
                </a:lnTo>
                <a:lnTo>
                  <a:pt x="29" y="44"/>
                </a:lnTo>
                <a:lnTo>
                  <a:pt x="23" y="44"/>
                </a:lnTo>
                <a:lnTo>
                  <a:pt x="17" y="43"/>
                </a:lnTo>
                <a:lnTo>
                  <a:pt x="11" y="43"/>
                </a:lnTo>
                <a:lnTo>
                  <a:pt x="7" y="41"/>
                </a:lnTo>
                <a:lnTo>
                  <a:pt x="5" y="43"/>
                </a:lnTo>
                <a:lnTo>
                  <a:pt x="0" y="33"/>
                </a:lnTo>
                <a:lnTo>
                  <a:pt x="1" y="25"/>
                </a:lnTo>
                <a:lnTo>
                  <a:pt x="5" y="17"/>
                </a:lnTo>
                <a:lnTo>
                  <a:pt x="10" y="10"/>
                </a:lnTo>
                <a:lnTo>
                  <a:pt x="18" y="6"/>
                </a:lnTo>
                <a:lnTo>
                  <a:pt x="28" y="2"/>
                </a:lnTo>
                <a:lnTo>
                  <a:pt x="37" y="0"/>
                </a:lnTo>
                <a:lnTo>
                  <a:pt x="4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200" spc="-1" strike="noStrike">
              <a:solidFill>
                <a:srgbClr val="000000"/>
              </a:solidFill>
              <a:latin typeface="Verdana"/>
            </a:endParaRPr>
          </a:p>
        </p:txBody>
      </p:sp>
      <p:sp>
        <p:nvSpPr>
          <p:cNvPr id="172" name="Freeform 1040"/>
          <p:cNvSpPr/>
          <p:nvPr/>
        </p:nvSpPr>
        <p:spPr>
          <a:xfrm>
            <a:off x="1982880" y="5510160"/>
            <a:ext cx="272880" cy="398520"/>
          </a:xfrm>
          <a:custGeom>
            <a:avLst/>
            <a:gdLst>
              <a:gd name="textAreaLeft" fmla="*/ 0 w 272880"/>
              <a:gd name="textAreaRight" fmla="*/ 273240 w 272880"/>
              <a:gd name="textAreaTop" fmla="*/ 0 h 398520"/>
              <a:gd name="textAreaBottom" fmla="*/ 398880 h 398520"/>
            </a:gdLst>
            <a:ahLst/>
            <a:rect l="textAreaLeft" t="textAreaTop" r="textAreaRight" b="textAreaBottom"/>
            <a:pathLst>
              <a:path w="345" h="501">
                <a:moveTo>
                  <a:pt x="345" y="499"/>
                </a:moveTo>
                <a:lnTo>
                  <a:pt x="135" y="501"/>
                </a:lnTo>
                <a:lnTo>
                  <a:pt x="132" y="478"/>
                </a:lnTo>
                <a:lnTo>
                  <a:pt x="128" y="455"/>
                </a:lnTo>
                <a:lnTo>
                  <a:pt x="125" y="431"/>
                </a:lnTo>
                <a:lnTo>
                  <a:pt x="121" y="408"/>
                </a:lnTo>
                <a:lnTo>
                  <a:pt x="117" y="385"/>
                </a:lnTo>
                <a:lnTo>
                  <a:pt x="111" y="364"/>
                </a:lnTo>
                <a:lnTo>
                  <a:pt x="105" y="340"/>
                </a:lnTo>
                <a:lnTo>
                  <a:pt x="99" y="319"/>
                </a:lnTo>
                <a:lnTo>
                  <a:pt x="35" y="122"/>
                </a:lnTo>
                <a:lnTo>
                  <a:pt x="31" y="114"/>
                </a:lnTo>
                <a:lnTo>
                  <a:pt x="27" y="104"/>
                </a:lnTo>
                <a:lnTo>
                  <a:pt x="23" y="95"/>
                </a:lnTo>
                <a:lnTo>
                  <a:pt x="19" y="85"/>
                </a:lnTo>
                <a:lnTo>
                  <a:pt x="14" y="76"/>
                </a:lnTo>
                <a:lnTo>
                  <a:pt x="10" y="65"/>
                </a:lnTo>
                <a:lnTo>
                  <a:pt x="5" y="56"/>
                </a:lnTo>
                <a:lnTo>
                  <a:pt x="0" y="47"/>
                </a:lnTo>
                <a:lnTo>
                  <a:pt x="10" y="38"/>
                </a:lnTo>
                <a:lnTo>
                  <a:pt x="20" y="31"/>
                </a:lnTo>
                <a:lnTo>
                  <a:pt x="31" y="24"/>
                </a:lnTo>
                <a:lnTo>
                  <a:pt x="42" y="18"/>
                </a:lnTo>
                <a:lnTo>
                  <a:pt x="53" y="13"/>
                </a:lnTo>
                <a:lnTo>
                  <a:pt x="65" y="9"/>
                </a:lnTo>
                <a:lnTo>
                  <a:pt x="76" y="4"/>
                </a:lnTo>
                <a:lnTo>
                  <a:pt x="88" y="0"/>
                </a:lnTo>
                <a:lnTo>
                  <a:pt x="103" y="16"/>
                </a:lnTo>
                <a:lnTo>
                  <a:pt x="59" y="84"/>
                </a:lnTo>
                <a:lnTo>
                  <a:pt x="134" y="55"/>
                </a:lnTo>
                <a:lnTo>
                  <a:pt x="149" y="61"/>
                </a:lnTo>
                <a:lnTo>
                  <a:pt x="158" y="71"/>
                </a:lnTo>
                <a:lnTo>
                  <a:pt x="164" y="81"/>
                </a:lnTo>
                <a:lnTo>
                  <a:pt x="165" y="86"/>
                </a:lnTo>
                <a:lnTo>
                  <a:pt x="93" y="130"/>
                </a:lnTo>
                <a:lnTo>
                  <a:pt x="186" y="130"/>
                </a:lnTo>
                <a:lnTo>
                  <a:pt x="196" y="133"/>
                </a:lnTo>
                <a:lnTo>
                  <a:pt x="204" y="138"/>
                </a:lnTo>
                <a:lnTo>
                  <a:pt x="210" y="146"/>
                </a:lnTo>
                <a:lnTo>
                  <a:pt x="217" y="155"/>
                </a:lnTo>
                <a:lnTo>
                  <a:pt x="134" y="190"/>
                </a:lnTo>
                <a:lnTo>
                  <a:pt x="238" y="196"/>
                </a:lnTo>
                <a:lnTo>
                  <a:pt x="249" y="205"/>
                </a:lnTo>
                <a:lnTo>
                  <a:pt x="255" y="211"/>
                </a:lnTo>
                <a:lnTo>
                  <a:pt x="258" y="222"/>
                </a:lnTo>
                <a:lnTo>
                  <a:pt x="263" y="238"/>
                </a:lnTo>
                <a:lnTo>
                  <a:pt x="184" y="283"/>
                </a:lnTo>
                <a:lnTo>
                  <a:pt x="292" y="283"/>
                </a:lnTo>
                <a:lnTo>
                  <a:pt x="298" y="296"/>
                </a:lnTo>
                <a:lnTo>
                  <a:pt x="304" y="307"/>
                </a:lnTo>
                <a:lnTo>
                  <a:pt x="309" y="321"/>
                </a:lnTo>
                <a:lnTo>
                  <a:pt x="310" y="335"/>
                </a:lnTo>
                <a:lnTo>
                  <a:pt x="215" y="362"/>
                </a:lnTo>
                <a:lnTo>
                  <a:pt x="330" y="388"/>
                </a:lnTo>
                <a:lnTo>
                  <a:pt x="331" y="398"/>
                </a:lnTo>
                <a:lnTo>
                  <a:pt x="334" y="407"/>
                </a:lnTo>
                <a:lnTo>
                  <a:pt x="338" y="417"/>
                </a:lnTo>
                <a:lnTo>
                  <a:pt x="339" y="427"/>
                </a:lnTo>
                <a:lnTo>
                  <a:pt x="239" y="449"/>
                </a:lnTo>
                <a:lnTo>
                  <a:pt x="345" y="499"/>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3" name="Freeform 1041"/>
          <p:cNvSpPr/>
          <p:nvPr/>
        </p:nvSpPr>
        <p:spPr>
          <a:xfrm>
            <a:off x="531720" y="3886200"/>
            <a:ext cx="2286000" cy="2090880"/>
          </a:xfrm>
          <a:custGeom>
            <a:avLst/>
            <a:gdLst>
              <a:gd name="textAreaLeft" fmla="*/ 0 w 2286000"/>
              <a:gd name="textAreaRight" fmla="*/ 2286360 w 2286000"/>
              <a:gd name="textAreaTop" fmla="*/ 0 h 2090880"/>
              <a:gd name="textAreaBottom" fmla="*/ 2091240 h 2090880"/>
            </a:gdLst>
            <a:ahLst/>
            <a:rect l="textAreaLeft" t="textAreaTop" r="textAreaRight" b="textAreaBottom"/>
            <a:pathLst>
              <a:path w="2320" h="2320">
                <a:moveTo>
                  <a:pt x="2320" y="1436"/>
                </a:moveTo>
                <a:lnTo>
                  <a:pt x="2319" y="1340"/>
                </a:lnTo>
                <a:lnTo>
                  <a:pt x="2320" y="1243"/>
                </a:lnTo>
                <a:lnTo>
                  <a:pt x="2318" y="1146"/>
                </a:lnTo>
                <a:lnTo>
                  <a:pt x="2315" y="1051"/>
                </a:lnTo>
                <a:lnTo>
                  <a:pt x="2315" y="954"/>
                </a:lnTo>
                <a:lnTo>
                  <a:pt x="2318" y="857"/>
                </a:lnTo>
                <a:lnTo>
                  <a:pt x="2315" y="759"/>
                </a:lnTo>
                <a:lnTo>
                  <a:pt x="2315" y="664"/>
                </a:lnTo>
                <a:lnTo>
                  <a:pt x="2313" y="566"/>
                </a:lnTo>
                <a:lnTo>
                  <a:pt x="2320" y="470"/>
                </a:lnTo>
                <a:lnTo>
                  <a:pt x="2319" y="373"/>
                </a:lnTo>
                <a:lnTo>
                  <a:pt x="2318" y="276"/>
                </a:lnTo>
                <a:lnTo>
                  <a:pt x="2317" y="182"/>
                </a:lnTo>
                <a:lnTo>
                  <a:pt x="2315" y="89"/>
                </a:lnTo>
                <a:lnTo>
                  <a:pt x="2318" y="2"/>
                </a:lnTo>
                <a:lnTo>
                  <a:pt x="2217" y="8"/>
                </a:lnTo>
                <a:lnTo>
                  <a:pt x="2121" y="5"/>
                </a:lnTo>
                <a:lnTo>
                  <a:pt x="2022" y="3"/>
                </a:lnTo>
                <a:lnTo>
                  <a:pt x="1925" y="3"/>
                </a:lnTo>
                <a:lnTo>
                  <a:pt x="1828" y="7"/>
                </a:lnTo>
                <a:lnTo>
                  <a:pt x="1730" y="2"/>
                </a:lnTo>
                <a:lnTo>
                  <a:pt x="1633" y="0"/>
                </a:lnTo>
                <a:lnTo>
                  <a:pt x="1536" y="7"/>
                </a:lnTo>
                <a:lnTo>
                  <a:pt x="1438" y="1"/>
                </a:lnTo>
                <a:lnTo>
                  <a:pt x="1340" y="0"/>
                </a:lnTo>
                <a:lnTo>
                  <a:pt x="1243" y="1"/>
                </a:lnTo>
                <a:lnTo>
                  <a:pt x="1147" y="5"/>
                </a:lnTo>
                <a:lnTo>
                  <a:pt x="1051" y="1"/>
                </a:lnTo>
                <a:lnTo>
                  <a:pt x="954" y="7"/>
                </a:lnTo>
                <a:lnTo>
                  <a:pt x="857" y="0"/>
                </a:lnTo>
                <a:lnTo>
                  <a:pt x="759" y="3"/>
                </a:lnTo>
                <a:lnTo>
                  <a:pt x="664" y="5"/>
                </a:lnTo>
                <a:lnTo>
                  <a:pt x="567" y="6"/>
                </a:lnTo>
                <a:lnTo>
                  <a:pt x="470" y="5"/>
                </a:lnTo>
                <a:lnTo>
                  <a:pt x="348" y="1"/>
                </a:lnTo>
                <a:lnTo>
                  <a:pt x="348" y="84"/>
                </a:lnTo>
                <a:lnTo>
                  <a:pt x="2249" y="84"/>
                </a:lnTo>
                <a:lnTo>
                  <a:pt x="2249" y="2252"/>
                </a:lnTo>
                <a:lnTo>
                  <a:pt x="81" y="2252"/>
                </a:lnTo>
                <a:lnTo>
                  <a:pt x="81" y="84"/>
                </a:lnTo>
                <a:lnTo>
                  <a:pt x="348" y="84"/>
                </a:lnTo>
                <a:lnTo>
                  <a:pt x="348" y="1"/>
                </a:lnTo>
                <a:lnTo>
                  <a:pt x="278" y="1"/>
                </a:lnTo>
                <a:lnTo>
                  <a:pt x="183" y="5"/>
                </a:lnTo>
                <a:lnTo>
                  <a:pt x="90" y="1"/>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0"/>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19"/>
                </a:lnTo>
                <a:lnTo>
                  <a:pt x="687" y="2314"/>
                </a:lnTo>
                <a:lnTo>
                  <a:pt x="786" y="2320"/>
                </a:lnTo>
                <a:lnTo>
                  <a:pt x="884" y="2314"/>
                </a:lnTo>
                <a:lnTo>
                  <a:pt x="980" y="2313"/>
                </a:lnTo>
                <a:lnTo>
                  <a:pt x="1077" y="2312"/>
                </a:lnTo>
                <a:lnTo>
                  <a:pt x="1174" y="2319"/>
                </a:lnTo>
                <a:lnTo>
                  <a:pt x="1271" y="2319"/>
                </a:lnTo>
                <a:lnTo>
                  <a:pt x="1366" y="2320"/>
                </a:lnTo>
                <a:lnTo>
                  <a:pt x="1463" y="2320"/>
                </a:lnTo>
                <a:lnTo>
                  <a:pt x="1561" y="2315"/>
                </a:lnTo>
                <a:lnTo>
                  <a:pt x="1656" y="2317"/>
                </a:lnTo>
                <a:lnTo>
                  <a:pt x="1754" y="2313"/>
                </a:lnTo>
                <a:lnTo>
                  <a:pt x="1851" y="2313"/>
                </a:lnTo>
                <a:lnTo>
                  <a:pt x="1947" y="2313"/>
                </a:lnTo>
                <a:lnTo>
                  <a:pt x="2044" y="2318"/>
                </a:lnTo>
                <a:lnTo>
                  <a:pt x="2138" y="2319"/>
                </a:lnTo>
                <a:lnTo>
                  <a:pt x="2231" y="2320"/>
                </a:lnTo>
                <a:lnTo>
                  <a:pt x="2315" y="2315"/>
                </a:lnTo>
                <a:lnTo>
                  <a:pt x="2315" y="2217"/>
                </a:lnTo>
                <a:lnTo>
                  <a:pt x="2320" y="2120"/>
                </a:lnTo>
                <a:lnTo>
                  <a:pt x="2315" y="2022"/>
                </a:lnTo>
                <a:lnTo>
                  <a:pt x="2313" y="1924"/>
                </a:lnTo>
                <a:lnTo>
                  <a:pt x="2319" y="1828"/>
                </a:lnTo>
                <a:lnTo>
                  <a:pt x="2319" y="1730"/>
                </a:lnTo>
                <a:lnTo>
                  <a:pt x="2313" y="1633"/>
                </a:lnTo>
                <a:lnTo>
                  <a:pt x="2314" y="1534"/>
                </a:lnTo>
                <a:lnTo>
                  <a:pt x="2320"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4" name="Freeform 1042"/>
          <p:cNvSpPr/>
          <p:nvPr/>
        </p:nvSpPr>
        <p:spPr>
          <a:xfrm>
            <a:off x="1757520" y="4594320"/>
            <a:ext cx="279360" cy="347400"/>
          </a:xfrm>
          <a:custGeom>
            <a:avLst/>
            <a:gdLst>
              <a:gd name="textAreaLeft" fmla="*/ 0 w 279360"/>
              <a:gd name="textAreaRight" fmla="*/ 279720 w 279360"/>
              <a:gd name="textAreaTop" fmla="*/ 0 h 347400"/>
              <a:gd name="textAreaBottom" fmla="*/ 347400 h 347400"/>
            </a:gdLst>
            <a:ahLst/>
            <a:rect l="textAreaLeft" t="textAreaTop" r="textAreaRight" b="textAreaBottom"/>
            <a:pathLst>
              <a:path w="352" h="439">
                <a:moveTo>
                  <a:pt x="58" y="434"/>
                </a:moveTo>
                <a:lnTo>
                  <a:pt x="135" y="160"/>
                </a:lnTo>
                <a:lnTo>
                  <a:pt x="124" y="163"/>
                </a:lnTo>
                <a:lnTo>
                  <a:pt x="115" y="160"/>
                </a:lnTo>
                <a:lnTo>
                  <a:pt x="107" y="157"/>
                </a:lnTo>
                <a:lnTo>
                  <a:pt x="98" y="152"/>
                </a:lnTo>
                <a:lnTo>
                  <a:pt x="90" y="146"/>
                </a:lnTo>
                <a:lnTo>
                  <a:pt x="82" y="143"/>
                </a:lnTo>
                <a:lnTo>
                  <a:pt x="74" y="141"/>
                </a:lnTo>
                <a:lnTo>
                  <a:pt x="64" y="142"/>
                </a:lnTo>
                <a:lnTo>
                  <a:pt x="54" y="140"/>
                </a:lnTo>
                <a:lnTo>
                  <a:pt x="45" y="136"/>
                </a:lnTo>
                <a:lnTo>
                  <a:pt x="37" y="133"/>
                </a:lnTo>
                <a:lnTo>
                  <a:pt x="31" y="125"/>
                </a:lnTo>
                <a:lnTo>
                  <a:pt x="26" y="112"/>
                </a:lnTo>
                <a:lnTo>
                  <a:pt x="16" y="104"/>
                </a:lnTo>
                <a:lnTo>
                  <a:pt x="5" y="93"/>
                </a:lnTo>
                <a:lnTo>
                  <a:pt x="0" y="80"/>
                </a:lnTo>
                <a:lnTo>
                  <a:pt x="1" y="63"/>
                </a:lnTo>
                <a:lnTo>
                  <a:pt x="3" y="49"/>
                </a:lnTo>
                <a:lnTo>
                  <a:pt x="8" y="36"/>
                </a:lnTo>
                <a:lnTo>
                  <a:pt x="14" y="25"/>
                </a:lnTo>
                <a:lnTo>
                  <a:pt x="22" y="17"/>
                </a:lnTo>
                <a:lnTo>
                  <a:pt x="31" y="10"/>
                </a:lnTo>
                <a:lnTo>
                  <a:pt x="41" y="6"/>
                </a:lnTo>
                <a:lnTo>
                  <a:pt x="54" y="2"/>
                </a:lnTo>
                <a:lnTo>
                  <a:pt x="61" y="0"/>
                </a:lnTo>
                <a:lnTo>
                  <a:pt x="68" y="0"/>
                </a:lnTo>
                <a:lnTo>
                  <a:pt x="76" y="1"/>
                </a:lnTo>
                <a:lnTo>
                  <a:pt x="85" y="2"/>
                </a:lnTo>
                <a:lnTo>
                  <a:pt x="93" y="5"/>
                </a:lnTo>
                <a:lnTo>
                  <a:pt x="100" y="8"/>
                </a:lnTo>
                <a:lnTo>
                  <a:pt x="107" y="13"/>
                </a:lnTo>
                <a:lnTo>
                  <a:pt x="113" y="17"/>
                </a:lnTo>
                <a:lnTo>
                  <a:pt x="119" y="39"/>
                </a:lnTo>
                <a:lnTo>
                  <a:pt x="126" y="38"/>
                </a:lnTo>
                <a:lnTo>
                  <a:pt x="131" y="37"/>
                </a:lnTo>
                <a:lnTo>
                  <a:pt x="138" y="36"/>
                </a:lnTo>
                <a:lnTo>
                  <a:pt x="144" y="35"/>
                </a:lnTo>
                <a:lnTo>
                  <a:pt x="150" y="35"/>
                </a:lnTo>
                <a:lnTo>
                  <a:pt x="155" y="36"/>
                </a:lnTo>
                <a:lnTo>
                  <a:pt x="160" y="39"/>
                </a:lnTo>
                <a:lnTo>
                  <a:pt x="165" y="43"/>
                </a:lnTo>
                <a:lnTo>
                  <a:pt x="172" y="51"/>
                </a:lnTo>
                <a:lnTo>
                  <a:pt x="177" y="61"/>
                </a:lnTo>
                <a:lnTo>
                  <a:pt x="181" y="73"/>
                </a:lnTo>
                <a:lnTo>
                  <a:pt x="184" y="83"/>
                </a:lnTo>
                <a:lnTo>
                  <a:pt x="194" y="77"/>
                </a:lnTo>
                <a:lnTo>
                  <a:pt x="202" y="72"/>
                </a:lnTo>
                <a:lnTo>
                  <a:pt x="210" y="68"/>
                </a:lnTo>
                <a:lnTo>
                  <a:pt x="219" y="66"/>
                </a:lnTo>
                <a:lnTo>
                  <a:pt x="227" y="66"/>
                </a:lnTo>
                <a:lnTo>
                  <a:pt x="235" y="67"/>
                </a:lnTo>
                <a:lnTo>
                  <a:pt x="244" y="69"/>
                </a:lnTo>
                <a:lnTo>
                  <a:pt x="253" y="73"/>
                </a:lnTo>
                <a:lnTo>
                  <a:pt x="256" y="77"/>
                </a:lnTo>
                <a:lnTo>
                  <a:pt x="260" y="80"/>
                </a:lnTo>
                <a:lnTo>
                  <a:pt x="265" y="81"/>
                </a:lnTo>
                <a:lnTo>
                  <a:pt x="271" y="81"/>
                </a:lnTo>
                <a:lnTo>
                  <a:pt x="276" y="80"/>
                </a:lnTo>
                <a:lnTo>
                  <a:pt x="281" y="80"/>
                </a:lnTo>
                <a:lnTo>
                  <a:pt x="287" y="78"/>
                </a:lnTo>
                <a:lnTo>
                  <a:pt x="290" y="78"/>
                </a:lnTo>
                <a:lnTo>
                  <a:pt x="297" y="80"/>
                </a:lnTo>
                <a:lnTo>
                  <a:pt x="303" y="80"/>
                </a:lnTo>
                <a:lnTo>
                  <a:pt x="310" y="81"/>
                </a:lnTo>
                <a:lnTo>
                  <a:pt x="317" y="82"/>
                </a:lnTo>
                <a:lnTo>
                  <a:pt x="323" y="83"/>
                </a:lnTo>
                <a:lnTo>
                  <a:pt x="328" y="85"/>
                </a:lnTo>
                <a:lnTo>
                  <a:pt x="333" y="89"/>
                </a:lnTo>
                <a:lnTo>
                  <a:pt x="338" y="93"/>
                </a:lnTo>
                <a:lnTo>
                  <a:pt x="347" y="111"/>
                </a:lnTo>
                <a:lnTo>
                  <a:pt x="352" y="130"/>
                </a:lnTo>
                <a:lnTo>
                  <a:pt x="351" y="150"/>
                </a:lnTo>
                <a:lnTo>
                  <a:pt x="346" y="168"/>
                </a:lnTo>
                <a:lnTo>
                  <a:pt x="335" y="180"/>
                </a:lnTo>
                <a:lnTo>
                  <a:pt x="324" y="191"/>
                </a:lnTo>
                <a:lnTo>
                  <a:pt x="312" y="199"/>
                </a:lnTo>
                <a:lnTo>
                  <a:pt x="301" y="206"/>
                </a:lnTo>
                <a:lnTo>
                  <a:pt x="289" y="209"/>
                </a:lnTo>
                <a:lnTo>
                  <a:pt x="278" y="209"/>
                </a:lnTo>
                <a:lnTo>
                  <a:pt x="265" y="205"/>
                </a:lnTo>
                <a:lnTo>
                  <a:pt x="252" y="196"/>
                </a:lnTo>
                <a:lnTo>
                  <a:pt x="246" y="198"/>
                </a:lnTo>
                <a:lnTo>
                  <a:pt x="240" y="201"/>
                </a:lnTo>
                <a:lnTo>
                  <a:pt x="233" y="202"/>
                </a:lnTo>
                <a:lnTo>
                  <a:pt x="226" y="203"/>
                </a:lnTo>
                <a:lnTo>
                  <a:pt x="219" y="203"/>
                </a:lnTo>
                <a:lnTo>
                  <a:pt x="213" y="202"/>
                </a:lnTo>
                <a:lnTo>
                  <a:pt x="206" y="201"/>
                </a:lnTo>
                <a:lnTo>
                  <a:pt x="200" y="197"/>
                </a:lnTo>
                <a:lnTo>
                  <a:pt x="194" y="192"/>
                </a:lnTo>
                <a:lnTo>
                  <a:pt x="184" y="187"/>
                </a:lnTo>
                <a:lnTo>
                  <a:pt x="176" y="179"/>
                </a:lnTo>
                <a:lnTo>
                  <a:pt x="170" y="166"/>
                </a:lnTo>
                <a:lnTo>
                  <a:pt x="68" y="439"/>
                </a:lnTo>
                <a:lnTo>
                  <a:pt x="58" y="434"/>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5" name="Freeform 1043"/>
          <p:cNvSpPr/>
          <p:nvPr/>
        </p:nvSpPr>
        <p:spPr>
          <a:xfrm>
            <a:off x="1771560" y="4606920"/>
            <a:ext cx="112680" cy="95400"/>
          </a:xfrm>
          <a:custGeom>
            <a:avLst/>
            <a:gdLst>
              <a:gd name="textAreaLeft" fmla="*/ 0 w 112680"/>
              <a:gd name="textAreaRight" fmla="*/ 113040 w 112680"/>
              <a:gd name="textAreaTop" fmla="*/ 0 h 95400"/>
              <a:gd name="textAreaBottom" fmla="*/ 95760 h 95400"/>
            </a:gdLst>
            <a:ahLst/>
            <a:rect l="textAreaLeft" t="textAreaTop" r="textAreaRight" b="textAreaBottom"/>
            <a:pathLst>
              <a:path w="142" h="120">
                <a:moveTo>
                  <a:pt x="83" y="22"/>
                </a:moveTo>
                <a:lnTo>
                  <a:pt x="83" y="36"/>
                </a:lnTo>
                <a:lnTo>
                  <a:pt x="79" y="44"/>
                </a:lnTo>
                <a:lnTo>
                  <a:pt x="70" y="46"/>
                </a:lnTo>
                <a:lnTo>
                  <a:pt x="57" y="42"/>
                </a:lnTo>
                <a:lnTo>
                  <a:pt x="61" y="35"/>
                </a:lnTo>
                <a:lnTo>
                  <a:pt x="68" y="30"/>
                </a:lnTo>
                <a:lnTo>
                  <a:pt x="74" y="26"/>
                </a:lnTo>
                <a:lnTo>
                  <a:pt x="73" y="16"/>
                </a:lnTo>
                <a:lnTo>
                  <a:pt x="67" y="14"/>
                </a:lnTo>
                <a:lnTo>
                  <a:pt x="61" y="13"/>
                </a:lnTo>
                <a:lnTo>
                  <a:pt x="55" y="14"/>
                </a:lnTo>
                <a:lnTo>
                  <a:pt x="50" y="18"/>
                </a:lnTo>
                <a:lnTo>
                  <a:pt x="42" y="23"/>
                </a:lnTo>
                <a:lnTo>
                  <a:pt x="37" y="30"/>
                </a:lnTo>
                <a:lnTo>
                  <a:pt x="35" y="38"/>
                </a:lnTo>
                <a:lnTo>
                  <a:pt x="33" y="46"/>
                </a:lnTo>
                <a:lnTo>
                  <a:pt x="36" y="51"/>
                </a:lnTo>
                <a:lnTo>
                  <a:pt x="41" y="56"/>
                </a:lnTo>
                <a:lnTo>
                  <a:pt x="45" y="59"/>
                </a:lnTo>
                <a:lnTo>
                  <a:pt x="51" y="61"/>
                </a:lnTo>
                <a:lnTo>
                  <a:pt x="57" y="64"/>
                </a:lnTo>
                <a:lnTo>
                  <a:pt x="63" y="65"/>
                </a:lnTo>
                <a:lnTo>
                  <a:pt x="68" y="65"/>
                </a:lnTo>
                <a:lnTo>
                  <a:pt x="75" y="64"/>
                </a:lnTo>
                <a:lnTo>
                  <a:pt x="81" y="60"/>
                </a:lnTo>
                <a:lnTo>
                  <a:pt x="87" y="57"/>
                </a:lnTo>
                <a:lnTo>
                  <a:pt x="94" y="54"/>
                </a:lnTo>
                <a:lnTo>
                  <a:pt x="99" y="53"/>
                </a:lnTo>
                <a:lnTo>
                  <a:pt x="106" y="52"/>
                </a:lnTo>
                <a:lnTo>
                  <a:pt x="113" y="51"/>
                </a:lnTo>
                <a:lnTo>
                  <a:pt x="120" y="51"/>
                </a:lnTo>
                <a:lnTo>
                  <a:pt x="127" y="51"/>
                </a:lnTo>
                <a:lnTo>
                  <a:pt x="134" y="60"/>
                </a:lnTo>
                <a:lnTo>
                  <a:pt x="137" y="71"/>
                </a:lnTo>
                <a:lnTo>
                  <a:pt x="140" y="82"/>
                </a:lnTo>
                <a:lnTo>
                  <a:pt x="142" y="94"/>
                </a:lnTo>
                <a:lnTo>
                  <a:pt x="136" y="98"/>
                </a:lnTo>
                <a:lnTo>
                  <a:pt x="131" y="104"/>
                </a:lnTo>
                <a:lnTo>
                  <a:pt x="125" y="110"/>
                </a:lnTo>
                <a:lnTo>
                  <a:pt x="118" y="114"/>
                </a:lnTo>
                <a:lnTo>
                  <a:pt x="110" y="118"/>
                </a:lnTo>
                <a:lnTo>
                  <a:pt x="103" y="120"/>
                </a:lnTo>
                <a:lnTo>
                  <a:pt x="95" y="120"/>
                </a:lnTo>
                <a:lnTo>
                  <a:pt x="87" y="118"/>
                </a:lnTo>
                <a:lnTo>
                  <a:pt x="82" y="109"/>
                </a:lnTo>
                <a:lnTo>
                  <a:pt x="81" y="97"/>
                </a:lnTo>
                <a:lnTo>
                  <a:pt x="76" y="90"/>
                </a:lnTo>
                <a:lnTo>
                  <a:pt x="64" y="92"/>
                </a:lnTo>
                <a:lnTo>
                  <a:pt x="58" y="100"/>
                </a:lnTo>
                <a:lnTo>
                  <a:pt x="51" y="105"/>
                </a:lnTo>
                <a:lnTo>
                  <a:pt x="43" y="106"/>
                </a:lnTo>
                <a:lnTo>
                  <a:pt x="35" y="104"/>
                </a:lnTo>
                <a:lnTo>
                  <a:pt x="32" y="97"/>
                </a:lnTo>
                <a:lnTo>
                  <a:pt x="32" y="89"/>
                </a:lnTo>
                <a:lnTo>
                  <a:pt x="30" y="81"/>
                </a:lnTo>
                <a:lnTo>
                  <a:pt x="23" y="76"/>
                </a:lnTo>
                <a:lnTo>
                  <a:pt x="15" y="77"/>
                </a:lnTo>
                <a:lnTo>
                  <a:pt x="8" y="73"/>
                </a:lnTo>
                <a:lnTo>
                  <a:pt x="4" y="66"/>
                </a:lnTo>
                <a:lnTo>
                  <a:pt x="0" y="58"/>
                </a:lnTo>
                <a:lnTo>
                  <a:pt x="2" y="46"/>
                </a:lnTo>
                <a:lnTo>
                  <a:pt x="5" y="37"/>
                </a:lnTo>
                <a:lnTo>
                  <a:pt x="11" y="28"/>
                </a:lnTo>
                <a:lnTo>
                  <a:pt x="18" y="21"/>
                </a:lnTo>
                <a:lnTo>
                  <a:pt x="26" y="14"/>
                </a:lnTo>
                <a:lnTo>
                  <a:pt x="34" y="8"/>
                </a:lnTo>
                <a:lnTo>
                  <a:pt x="43" y="4"/>
                </a:lnTo>
                <a:lnTo>
                  <a:pt x="52" y="0"/>
                </a:lnTo>
                <a:lnTo>
                  <a:pt x="61" y="3"/>
                </a:lnTo>
                <a:lnTo>
                  <a:pt x="71" y="7"/>
                </a:lnTo>
                <a:lnTo>
                  <a:pt x="79" y="14"/>
                </a:lnTo>
                <a:lnTo>
                  <a:pt x="8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6" name="Freeform 1044"/>
          <p:cNvSpPr/>
          <p:nvPr/>
        </p:nvSpPr>
        <p:spPr>
          <a:xfrm>
            <a:off x="1906560" y="4664160"/>
            <a:ext cx="114480" cy="77760"/>
          </a:xfrm>
          <a:custGeom>
            <a:avLst/>
            <a:gdLst>
              <a:gd name="textAreaLeft" fmla="*/ 0 w 114480"/>
              <a:gd name="textAreaRight" fmla="*/ 114840 w 114480"/>
              <a:gd name="textAreaTop" fmla="*/ 0 h 77760"/>
              <a:gd name="textAreaBottom" fmla="*/ 78120 h 77760"/>
            </a:gdLst>
            <a:ahLst/>
            <a:rect l="textAreaLeft" t="textAreaTop" r="textAreaRight" b="textAreaBottom"/>
            <a:pathLst>
              <a:path w="144" h="98">
                <a:moveTo>
                  <a:pt x="88" y="69"/>
                </a:moveTo>
                <a:lnTo>
                  <a:pt x="102" y="66"/>
                </a:lnTo>
                <a:lnTo>
                  <a:pt x="113" y="61"/>
                </a:lnTo>
                <a:lnTo>
                  <a:pt x="120" y="53"/>
                </a:lnTo>
                <a:lnTo>
                  <a:pt x="124" y="45"/>
                </a:lnTo>
                <a:lnTo>
                  <a:pt x="126" y="37"/>
                </a:lnTo>
                <a:lnTo>
                  <a:pt x="126" y="30"/>
                </a:lnTo>
                <a:lnTo>
                  <a:pt x="124" y="24"/>
                </a:lnTo>
                <a:lnTo>
                  <a:pt x="121" y="21"/>
                </a:lnTo>
                <a:lnTo>
                  <a:pt x="117" y="21"/>
                </a:lnTo>
                <a:lnTo>
                  <a:pt x="114" y="21"/>
                </a:lnTo>
                <a:lnTo>
                  <a:pt x="111" y="22"/>
                </a:lnTo>
                <a:lnTo>
                  <a:pt x="109" y="24"/>
                </a:lnTo>
                <a:lnTo>
                  <a:pt x="108" y="31"/>
                </a:lnTo>
                <a:lnTo>
                  <a:pt x="110" y="36"/>
                </a:lnTo>
                <a:lnTo>
                  <a:pt x="113" y="40"/>
                </a:lnTo>
                <a:lnTo>
                  <a:pt x="109" y="46"/>
                </a:lnTo>
                <a:lnTo>
                  <a:pt x="107" y="50"/>
                </a:lnTo>
                <a:lnTo>
                  <a:pt x="103" y="51"/>
                </a:lnTo>
                <a:lnTo>
                  <a:pt x="99" y="52"/>
                </a:lnTo>
                <a:lnTo>
                  <a:pt x="93" y="52"/>
                </a:lnTo>
                <a:lnTo>
                  <a:pt x="87" y="45"/>
                </a:lnTo>
                <a:lnTo>
                  <a:pt x="83" y="38"/>
                </a:lnTo>
                <a:lnTo>
                  <a:pt x="82" y="30"/>
                </a:lnTo>
                <a:lnTo>
                  <a:pt x="83" y="21"/>
                </a:lnTo>
                <a:lnTo>
                  <a:pt x="85" y="14"/>
                </a:lnTo>
                <a:lnTo>
                  <a:pt x="90" y="10"/>
                </a:lnTo>
                <a:lnTo>
                  <a:pt x="94" y="7"/>
                </a:lnTo>
                <a:lnTo>
                  <a:pt x="100" y="7"/>
                </a:lnTo>
                <a:lnTo>
                  <a:pt x="106" y="7"/>
                </a:lnTo>
                <a:lnTo>
                  <a:pt x="111" y="8"/>
                </a:lnTo>
                <a:lnTo>
                  <a:pt x="118" y="9"/>
                </a:lnTo>
                <a:lnTo>
                  <a:pt x="123" y="10"/>
                </a:lnTo>
                <a:lnTo>
                  <a:pt x="133" y="17"/>
                </a:lnTo>
                <a:lnTo>
                  <a:pt x="139" y="29"/>
                </a:lnTo>
                <a:lnTo>
                  <a:pt x="141" y="43"/>
                </a:lnTo>
                <a:lnTo>
                  <a:pt x="144" y="55"/>
                </a:lnTo>
                <a:lnTo>
                  <a:pt x="141" y="61"/>
                </a:lnTo>
                <a:lnTo>
                  <a:pt x="140" y="67"/>
                </a:lnTo>
                <a:lnTo>
                  <a:pt x="138" y="71"/>
                </a:lnTo>
                <a:lnTo>
                  <a:pt x="133" y="76"/>
                </a:lnTo>
                <a:lnTo>
                  <a:pt x="129" y="74"/>
                </a:lnTo>
                <a:lnTo>
                  <a:pt x="124" y="75"/>
                </a:lnTo>
                <a:lnTo>
                  <a:pt x="120" y="78"/>
                </a:lnTo>
                <a:lnTo>
                  <a:pt x="114" y="79"/>
                </a:lnTo>
                <a:lnTo>
                  <a:pt x="110" y="88"/>
                </a:lnTo>
                <a:lnTo>
                  <a:pt x="107" y="94"/>
                </a:lnTo>
                <a:lnTo>
                  <a:pt x="100" y="98"/>
                </a:lnTo>
                <a:lnTo>
                  <a:pt x="91" y="97"/>
                </a:lnTo>
                <a:lnTo>
                  <a:pt x="83" y="92"/>
                </a:lnTo>
                <a:lnTo>
                  <a:pt x="77" y="83"/>
                </a:lnTo>
                <a:lnTo>
                  <a:pt x="70" y="77"/>
                </a:lnTo>
                <a:lnTo>
                  <a:pt x="57" y="77"/>
                </a:lnTo>
                <a:lnTo>
                  <a:pt x="53" y="82"/>
                </a:lnTo>
                <a:lnTo>
                  <a:pt x="49" y="85"/>
                </a:lnTo>
                <a:lnTo>
                  <a:pt x="44" y="89"/>
                </a:lnTo>
                <a:lnTo>
                  <a:pt x="39" y="90"/>
                </a:lnTo>
                <a:lnTo>
                  <a:pt x="34" y="91"/>
                </a:lnTo>
                <a:lnTo>
                  <a:pt x="29" y="91"/>
                </a:lnTo>
                <a:lnTo>
                  <a:pt x="24" y="90"/>
                </a:lnTo>
                <a:lnTo>
                  <a:pt x="18" y="89"/>
                </a:lnTo>
                <a:lnTo>
                  <a:pt x="15" y="86"/>
                </a:lnTo>
                <a:lnTo>
                  <a:pt x="11" y="83"/>
                </a:lnTo>
                <a:lnTo>
                  <a:pt x="8" y="79"/>
                </a:lnTo>
                <a:lnTo>
                  <a:pt x="4" y="76"/>
                </a:lnTo>
                <a:lnTo>
                  <a:pt x="6" y="71"/>
                </a:lnTo>
                <a:lnTo>
                  <a:pt x="4" y="67"/>
                </a:lnTo>
                <a:lnTo>
                  <a:pt x="3" y="63"/>
                </a:lnTo>
                <a:lnTo>
                  <a:pt x="0" y="61"/>
                </a:lnTo>
                <a:lnTo>
                  <a:pt x="1" y="48"/>
                </a:lnTo>
                <a:lnTo>
                  <a:pt x="1" y="37"/>
                </a:lnTo>
                <a:lnTo>
                  <a:pt x="4" y="25"/>
                </a:lnTo>
                <a:lnTo>
                  <a:pt x="14" y="15"/>
                </a:lnTo>
                <a:lnTo>
                  <a:pt x="22" y="11"/>
                </a:lnTo>
                <a:lnTo>
                  <a:pt x="31" y="7"/>
                </a:lnTo>
                <a:lnTo>
                  <a:pt x="39" y="2"/>
                </a:lnTo>
                <a:lnTo>
                  <a:pt x="47" y="0"/>
                </a:lnTo>
                <a:lnTo>
                  <a:pt x="58" y="5"/>
                </a:lnTo>
                <a:lnTo>
                  <a:pt x="63" y="14"/>
                </a:lnTo>
                <a:lnTo>
                  <a:pt x="65" y="25"/>
                </a:lnTo>
                <a:lnTo>
                  <a:pt x="67" y="38"/>
                </a:lnTo>
                <a:lnTo>
                  <a:pt x="67" y="51"/>
                </a:lnTo>
                <a:lnTo>
                  <a:pt x="70" y="61"/>
                </a:lnTo>
                <a:lnTo>
                  <a:pt x="76" y="67"/>
                </a:lnTo>
                <a:lnTo>
                  <a:pt x="88" y="6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200" spc="-1" strike="noStrike">
              <a:solidFill>
                <a:srgbClr val="000000"/>
              </a:solidFill>
              <a:latin typeface="Verdana"/>
            </a:endParaRPr>
          </a:p>
        </p:txBody>
      </p:sp>
      <p:sp>
        <p:nvSpPr>
          <p:cNvPr id="177" name="Freeform 1045"/>
          <p:cNvSpPr/>
          <p:nvPr/>
        </p:nvSpPr>
        <p:spPr>
          <a:xfrm>
            <a:off x="1787400" y="4724280"/>
            <a:ext cx="141480" cy="203400"/>
          </a:xfrm>
          <a:custGeom>
            <a:avLst/>
            <a:gdLst>
              <a:gd name="textAreaLeft" fmla="*/ 0 w 141480"/>
              <a:gd name="textAreaRight" fmla="*/ 141840 w 141480"/>
              <a:gd name="textAreaTop" fmla="*/ 0 h 203400"/>
              <a:gd name="textAreaBottom" fmla="*/ 203760 h 203400"/>
            </a:gdLst>
            <a:ahLst/>
            <a:rect l="textAreaLeft" t="textAreaTop" r="textAreaRight" b="textAreaBottom"/>
            <a:pathLst>
              <a:path w="177" h="255">
                <a:moveTo>
                  <a:pt x="40" y="181"/>
                </a:moveTo>
                <a:lnTo>
                  <a:pt x="46" y="187"/>
                </a:lnTo>
                <a:lnTo>
                  <a:pt x="52" y="192"/>
                </a:lnTo>
                <a:lnTo>
                  <a:pt x="56" y="199"/>
                </a:lnTo>
                <a:lnTo>
                  <a:pt x="59" y="207"/>
                </a:lnTo>
                <a:lnTo>
                  <a:pt x="58" y="221"/>
                </a:lnTo>
                <a:lnTo>
                  <a:pt x="53" y="234"/>
                </a:lnTo>
                <a:lnTo>
                  <a:pt x="54" y="242"/>
                </a:lnTo>
                <a:lnTo>
                  <a:pt x="68" y="248"/>
                </a:lnTo>
                <a:lnTo>
                  <a:pt x="66" y="253"/>
                </a:lnTo>
                <a:lnTo>
                  <a:pt x="59" y="255"/>
                </a:lnTo>
                <a:lnTo>
                  <a:pt x="52" y="251"/>
                </a:lnTo>
                <a:lnTo>
                  <a:pt x="43" y="245"/>
                </a:lnTo>
                <a:lnTo>
                  <a:pt x="38" y="241"/>
                </a:lnTo>
                <a:lnTo>
                  <a:pt x="33" y="240"/>
                </a:lnTo>
                <a:lnTo>
                  <a:pt x="29" y="240"/>
                </a:lnTo>
                <a:lnTo>
                  <a:pt x="23" y="241"/>
                </a:lnTo>
                <a:lnTo>
                  <a:pt x="17" y="242"/>
                </a:lnTo>
                <a:lnTo>
                  <a:pt x="12" y="242"/>
                </a:lnTo>
                <a:lnTo>
                  <a:pt x="6" y="240"/>
                </a:lnTo>
                <a:lnTo>
                  <a:pt x="1" y="235"/>
                </a:lnTo>
                <a:lnTo>
                  <a:pt x="3" y="229"/>
                </a:lnTo>
                <a:lnTo>
                  <a:pt x="8" y="228"/>
                </a:lnTo>
                <a:lnTo>
                  <a:pt x="14" y="228"/>
                </a:lnTo>
                <a:lnTo>
                  <a:pt x="18" y="227"/>
                </a:lnTo>
                <a:lnTo>
                  <a:pt x="12" y="223"/>
                </a:lnTo>
                <a:lnTo>
                  <a:pt x="7" y="218"/>
                </a:lnTo>
                <a:lnTo>
                  <a:pt x="3" y="211"/>
                </a:lnTo>
                <a:lnTo>
                  <a:pt x="2" y="200"/>
                </a:lnTo>
                <a:lnTo>
                  <a:pt x="2" y="197"/>
                </a:lnTo>
                <a:lnTo>
                  <a:pt x="5" y="192"/>
                </a:lnTo>
                <a:lnTo>
                  <a:pt x="8" y="187"/>
                </a:lnTo>
                <a:lnTo>
                  <a:pt x="15" y="182"/>
                </a:lnTo>
                <a:lnTo>
                  <a:pt x="18" y="187"/>
                </a:lnTo>
                <a:lnTo>
                  <a:pt x="13" y="203"/>
                </a:lnTo>
                <a:lnTo>
                  <a:pt x="16" y="211"/>
                </a:lnTo>
                <a:lnTo>
                  <a:pt x="21" y="215"/>
                </a:lnTo>
                <a:lnTo>
                  <a:pt x="28" y="220"/>
                </a:lnTo>
                <a:lnTo>
                  <a:pt x="36" y="222"/>
                </a:lnTo>
                <a:lnTo>
                  <a:pt x="37" y="222"/>
                </a:lnTo>
                <a:lnTo>
                  <a:pt x="38" y="222"/>
                </a:lnTo>
                <a:lnTo>
                  <a:pt x="40" y="222"/>
                </a:lnTo>
                <a:lnTo>
                  <a:pt x="41" y="221"/>
                </a:lnTo>
                <a:lnTo>
                  <a:pt x="43" y="211"/>
                </a:lnTo>
                <a:lnTo>
                  <a:pt x="40" y="203"/>
                </a:lnTo>
                <a:lnTo>
                  <a:pt x="35" y="196"/>
                </a:lnTo>
                <a:lnTo>
                  <a:pt x="28" y="190"/>
                </a:lnTo>
                <a:lnTo>
                  <a:pt x="17" y="181"/>
                </a:lnTo>
                <a:lnTo>
                  <a:pt x="12" y="172"/>
                </a:lnTo>
                <a:lnTo>
                  <a:pt x="9" y="161"/>
                </a:lnTo>
                <a:lnTo>
                  <a:pt x="9" y="151"/>
                </a:lnTo>
                <a:lnTo>
                  <a:pt x="13" y="141"/>
                </a:lnTo>
                <a:lnTo>
                  <a:pt x="15" y="136"/>
                </a:lnTo>
                <a:lnTo>
                  <a:pt x="20" y="130"/>
                </a:lnTo>
                <a:lnTo>
                  <a:pt x="23" y="127"/>
                </a:lnTo>
                <a:lnTo>
                  <a:pt x="29" y="122"/>
                </a:lnTo>
                <a:lnTo>
                  <a:pt x="33" y="119"/>
                </a:lnTo>
                <a:lnTo>
                  <a:pt x="39" y="115"/>
                </a:lnTo>
                <a:lnTo>
                  <a:pt x="45" y="113"/>
                </a:lnTo>
                <a:lnTo>
                  <a:pt x="50" y="111"/>
                </a:lnTo>
                <a:lnTo>
                  <a:pt x="44" y="105"/>
                </a:lnTo>
                <a:lnTo>
                  <a:pt x="37" y="98"/>
                </a:lnTo>
                <a:lnTo>
                  <a:pt x="30" y="92"/>
                </a:lnTo>
                <a:lnTo>
                  <a:pt x="23" y="86"/>
                </a:lnTo>
                <a:lnTo>
                  <a:pt x="16" y="81"/>
                </a:lnTo>
                <a:lnTo>
                  <a:pt x="10" y="74"/>
                </a:lnTo>
                <a:lnTo>
                  <a:pt x="5" y="66"/>
                </a:lnTo>
                <a:lnTo>
                  <a:pt x="0" y="58"/>
                </a:lnTo>
                <a:lnTo>
                  <a:pt x="0" y="45"/>
                </a:lnTo>
                <a:lnTo>
                  <a:pt x="1" y="33"/>
                </a:lnTo>
                <a:lnTo>
                  <a:pt x="7" y="22"/>
                </a:lnTo>
                <a:lnTo>
                  <a:pt x="15" y="14"/>
                </a:lnTo>
                <a:lnTo>
                  <a:pt x="22" y="9"/>
                </a:lnTo>
                <a:lnTo>
                  <a:pt x="31" y="5"/>
                </a:lnTo>
                <a:lnTo>
                  <a:pt x="39" y="1"/>
                </a:lnTo>
                <a:lnTo>
                  <a:pt x="48" y="0"/>
                </a:lnTo>
                <a:lnTo>
                  <a:pt x="58" y="0"/>
                </a:lnTo>
                <a:lnTo>
                  <a:pt x="66" y="2"/>
                </a:lnTo>
                <a:lnTo>
                  <a:pt x="73" y="8"/>
                </a:lnTo>
                <a:lnTo>
                  <a:pt x="78" y="16"/>
                </a:lnTo>
                <a:lnTo>
                  <a:pt x="78" y="28"/>
                </a:lnTo>
                <a:lnTo>
                  <a:pt x="75" y="36"/>
                </a:lnTo>
                <a:lnTo>
                  <a:pt x="69" y="40"/>
                </a:lnTo>
                <a:lnTo>
                  <a:pt x="59" y="46"/>
                </a:lnTo>
                <a:lnTo>
                  <a:pt x="51" y="48"/>
                </a:lnTo>
                <a:lnTo>
                  <a:pt x="40" y="50"/>
                </a:lnTo>
                <a:lnTo>
                  <a:pt x="32" y="52"/>
                </a:lnTo>
                <a:lnTo>
                  <a:pt x="29" y="61"/>
                </a:lnTo>
                <a:lnTo>
                  <a:pt x="32" y="67"/>
                </a:lnTo>
                <a:lnTo>
                  <a:pt x="36" y="74"/>
                </a:lnTo>
                <a:lnTo>
                  <a:pt x="40" y="78"/>
                </a:lnTo>
                <a:lnTo>
                  <a:pt x="46" y="84"/>
                </a:lnTo>
                <a:lnTo>
                  <a:pt x="52" y="89"/>
                </a:lnTo>
                <a:lnTo>
                  <a:pt x="58" y="94"/>
                </a:lnTo>
                <a:lnTo>
                  <a:pt x="65" y="99"/>
                </a:lnTo>
                <a:lnTo>
                  <a:pt x="70" y="104"/>
                </a:lnTo>
                <a:lnTo>
                  <a:pt x="78" y="101"/>
                </a:lnTo>
                <a:lnTo>
                  <a:pt x="88" y="99"/>
                </a:lnTo>
                <a:lnTo>
                  <a:pt x="98" y="99"/>
                </a:lnTo>
                <a:lnTo>
                  <a:pt x="108" y="99"/>
                </a:lnTo>
                <a:lnTo>
                  <a:pt x="117" y="98"/>
                </a:lnTo>
                <a:lnTo>
                  <a:pt x="127" y="96"/>
                </a:lnTo>
                <a:lnTo>
                  <a:pt x="135" y="91"/>
                </a:lnTo>
                <a:lnTo>
                  <a:pt x="142" y="83"/>
                </a:lnTo>
                <a:lnTo>
                  <a:pt x="135" y="74"/>
                </a:lnTo>
                <a:lnTo>
                  <a:pt x="129" y="63"/>
                </a:lnTo>
                <a:lnTo>
                  <a:pt x="127" y="53"/>
                </a:lnTo>
                <a:lnTo>
                  <a:pt x="131" y="43"/>
                </a:lnTo>
                <a:lnTo>
                  <a:pt x="137" y="38"/>
                </a:lnTo>
                <a:lnTo>
                  <a:pt x="144" y="36"/>
                </a:lnTo>
                <a:lnTo>
                  <a:pt x="150" y="36"/>
                </a:lnTo>
                <a:lnTo>
                  <a:pt x="156" y="39"/>
                </a:lnTo>
                <a:lnTo>
                  <a:pt x="166" y="51"/>
                </a:lnTo>
                <a:lnTo>
                  <a:pt x="175" y="63"/>
                </a:lnTo>
                <a:lnTo>
                  <a:pt x="177" y="77"/>
                </a:lnTo>
                <a:lnTo>
                  <a:pt x="173" y="92"/>
                </a:lnTo>
                <a:lnTo>
                  <a:pt x="165" y="101"/>
                </a:lnTo>
                <a:lnTo>
                  <a:pt x="154" y="107"/>
                </a:lnTo>
                <a:lnTo>
                  <a:pt x="144" y="112"/>
                </a:lnTo>
                <a:lnTo>
                  <a:pt x="134" y="115"/>
                </a:lnTo>
                <a:lnTo>
                  <a:pt x="122" y="116"/>
                </a:lnTo>
                <a:lnTo>
                  <a:pt x="111" y="119"/>
                </a:lnTo>
                <a:lnTo>
                  <a:pt x="99" y="120"/>
                </a:lnTo>
                <a:lnTo>
                  <a:pt x="88" y="122"/>
                </a:lnTo>
                <a:lnTo>
                  <a:pt x="93" y="131"/>
                </a:lnTo>
                <a:lnTo>
                  <a:pt x="97" y="143"/>
                </a:lnTo>
                <a:lnTo>
                  <a:pt x="96" y="154"/>
                </a:lnTo>
                <a:lnTo>
                  <a:pt x="94" y="164"/>
                </a:lnTo>
                <a:lnTo>
                  <a:pt x="92" y="168"/>
                </a:lnTo>
                <a:lnTo>
                  <a:pt x="90" y="172"/>
                </a:lnTo>
                <a:lnTo>
                  <a:pt x="86" y="175"/>
                </a:lnTo>
                <a:lnTo>
                  <a:pt x="82" y="177"/>
                </a:lnTo>
                <a:lnTo>
                  <a:pt x="76" y="180"/>
                </a:lnTo>
                <a:lnTo>
                  <a:pt x="69" y="181"/>
                </a:lnTo>
                <a:lnTo>
                  <a:pt x="59" y="181"/>
                </a:lnTo>
                <a:lnTo>
                  <a:pt x="45" y="181"/>
                </a:lnTo>
                <a:lnTo>
                  <a:pt x="40" y="170"/>
                </a:lnTo>
                <a:lnTo>
                  <a:pt x="46" y="169"/>
                </a:lnTo>
                <a:lnTo>
                  <a:pt x="53" y="168"/>
                </a:lnTo>
                <a:lnTo>
                  <a:pt x="60" y="167"/>
                </a:lnTo>
                <a:lnTo>
                  <a:pt x="67" y="166"/>
                </a:lnTo>
                <a:lnTo>
                  <a:pt x="71" y="164"/>
                </a:lnTo>
                <a:lnTo>
                  <a:pt x="76" y="158"/>
                </a:lnTo>
                <a:lnTo>
                  <a:pt x="77" y="150"/>
                </a:lnTo>
                <a:lnTo>
                  <a:pt x="76" y="138"/>
                </a:lnTo>
                <a:lnTo>
                  <a:pt x="74" y="132"/>
                </a:lnTo>
                <a:lnTo>
                  <a:pt x="70" y="128"/>
                </a:lnTo>
                <a:lnTo>
                  <a:pt x="65" y="124"/>
                </a:lnTo>
                <a:lnTo>
                  <a:pt x="54" y="123"/>
                </a:lnTo>
                <a:lnTo>
                  <a:pt x="43" y="127"/>
                </a:lnTo>
                <a:lnTo>
                  <a:pt x="32" y="136"/>
                </a:lnTo>
                <a:lnTo>
                  <a:pt x="28" y="149"/>
                </a:lnTo>
                <a:lnTo>
                  <a:pt x="28" y="162"/>
                </a:lnTo>
                <a:lnTo>
                  <a:pt x="30" y="168"/>
                </a:lnTo>
                <a:lnTo>
                  <a:pt x="35" y="174"/>
                </a:lnTo>
                <a:lnTo>
                  <a:pt x="38" y="179"/>
                </a:lnTo>
                <a:lnTo>
                  <a:pt x="40" y="181"/>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pic>
        <p:nvPicPr>
          <p:cNvPr id="178" name="Picture 1046" descr="C:\Documents and Settings\Administratör\Application Data\Microsoft\Media Catalog\Downloaded Clips\cl0\PE01630_.wmf"/>
          <p:cNvPicPr/>
          <p:nvPr/>
        </p:nvPicPr>
        <p:blipFill>
          <a:blip r:embed="rId1"/>
          <a:stretch/>
        </p:blipFill>
        <p:spPr>
          <a:xfrm>
            <a:off x="3657600" y="4343400"/>
            <a:ext cx="1700280" cy="1657440"/>
          </a:xfrm>
          <a:prstGeom prst="rect">
            <a:avLst/>
          </a:prstGeom>
          <a:ln w="0">
            <a:noFill/>
          </a:ln>
        </p:spPr>
      </p:pic>
      <p:sp>
        <p:nvSpPr>
          <p:cNvPr id="179" name="Text Box 1047"/>
          <p:cNvSpPr/>
          <p:nvPr/>
        </p:nvSpPr>
        <p:spPr>
          <a:xfrm>
            <a:off x="2971800" y="3886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Use restrictions</a:t>
            </a:r>
            <a:endParaRPr b="0" lang="en-US" sz="2200" spc="-1" strike="noStrike">
              <a:solidFill>
                <a:srgbClr val="000000"/>
              </a:solidFill>
              <a:latin typeface="Verdana"/>
            </a:endParaRPr>
          </a:p>
        </p:txBody>
      </p:sp>
      <p:pic>
        <p:nvPicPr>
          <p:cNvPr id="180" name="Picture 1048" descr="C:\Documents and Settings\Administratör\Application Data\Microsoft\Media Catalog\Downloaded Clips\cl24\j0090336.wmf"/>
          <p:cNvPicPr/>
          <p:nvPr/>
        </p:nvPicPr>
        <p:blipFill>
          <a:blip r:embed="rId2"/>
          <a:stretch/>
        </p:blipFill>
        <p:spPr>
          <a:xfrm>
            <a:off x="6477120" y="4191120"/>
            <a:ext cx="2104920" cy="1757160"/>
          </a:xfrm>
          <a:prstGeom prst="rect">
            <a:avLst/>
          </a:prstGeom>
          <a:ln w="0">
            <a:noFill/>
          </a:ln>
        </p:spPr>
      </p:pic>
      <p:sp>
        <p:nvSpPr>
          <p:cNvPr id="181" name="Text Box 1049"/>
          <p:cNvSpPr/>
          <p:nvPr/>
        </p:nvSpPr>
        <p:spPr>
          <a:xfrm>
            <a:off x="6324480" y="35812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ction plan on risk reduction</a:t>
            </a:r>
            <a:endParaRPr b="0" lang="en-US" sz="2200" spc="-1" strike="noStrike">
              <a:solidFill>
                <a:srgbClr val="000000"/>
              </a:solidFill>
              <a:latin typeface="Verdana"/>
            </a:endParaRPr>
          </a:p>
        </p:txBody>
      </p:sp>
      <p:cxnSp>
        <p:nvCxnSpPr>
          <p:cNvPr id="182" name="AutoShape 1050"/>
          <p:cNvCxnSpPr/>
          <p:nvPr/>
        </p:nvCxnSpPr>
        <p:spPr>
          <a:xfrm flipH="1" flipV="1" rot="5400000">
            <a:off x="1271880" y="2513160"/>
            <a:ext cx="1621440" cy="1166040"/>
          </a:xfrm>
          <a:prstGeom prst="curvedConnector2">
            <a:avLst/>
          </a:prstGeom>
          <a:ln w="38160">
            <a:solidFill>
              <a:srgbClr val="000000"/>
            </a:solidFill>
            <a:miter/>
            <a:tailEnd len="med" type="triangle" w="med"/>
          </a:ln>
        </p:spPr>
      </p:cxnSp>
      <p:cxnSp>
        <p:nvCxnSpPr>
          <p:cNvPr id="183" name="AutoShape 1051"/>
          <p:cNvCxnSpPr/>
          <p:nvPr/>
        </p:nvCxnSpPr>
        <p:spPr>
          <a:xfrm flipV="1" rot="16200000">
            <a:off x="6262200" y="2023200"/>
            <a:ext cx="1448280" cy="1829520"/>
          </a:xfrm>
          <a:prstGeom prst="curvedConnector2">
            <a:avLst/>
          </a:prstGeom>
          <a:ln w="38160">
            <a:solidFill>
              <a:srgbClr val="000000"/>
            </a:solidFill>
            <a:miter/>
            <a:tailEnd len="med" type="triangle" w="med"/>
          </a:ln>
        </p:spPr>
      </p:cxnSp>
      <p:cxnSp>
        <p:nvCxnSpPr>
          <p:cNvPr id="184" name="AutoShape 1052"/>
          <p:cNvCxnSpPr>
            <a:stCxn id="179" idx="0"/>
          </p:cNvCxnSpPr>
          <p:nvPr/>
        </p:nvCxnSpPr>
        <p:spPr>
          <a:xfrm flipH="1" flipV="1">
            <a:off x="4495680" y="3504960"/>
            <a:ext cx="76680" cy="3816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ction Plan</a:t>
            </a:r>
            <a:endParaRPr b="0" lang="en-US" sz="3200" spc="-1" strike="noStrike">
              <a:solidFill>
                <a:srgbClr val="000000"/>
              </a:solidFill>
              <a:latin typeface="Arial"/>
            </a:endParaRPr>
          </a:p>
        </p:txBody>
      </p:sp>
      <p:sp>
        <p:nvSpPr>
          <p:cNvPr id="186" name="PlaceHolder 2"/>
          <p:cNvSpPr>
            <a:spLocks noGrp="1"/>
          </p:cNvSpPr>
          <p:nvPr>
            <p:ph/>
          </p:nvPr>
        </p:nvSpPr>
        <p:spPr>
          <a:xfrm>
            <a:off x="642960" y="1714680"/>
            <a:ext cx="7772400" cy="435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a:t>
            </a:r>
            <a:br>
              <a:rPr sz="2200"/>
            </a:b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BA - Swedish Board of Agricultur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PA - Swedish Environmental Protection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KEMI - Swedish Chemicals Agency</a:t>
            </a:r>
            <a:br>
              <a:rPr sz="2200"/>
            </a:br>
            <a:r>
              <a:rPr b="1" lang="en-GB"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collaboration with:</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FA - National Food Administra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WEA - </a:t>
            </a:r>
            <a:r>
              <a:rPr b="1" lang="sv-SE" sz="2200" spc="-1" strike="noStrike">
                <a:solidFill>
                  <a:srgbClr val="000000"/>
                </a:solidFill>
                <a:latin typeface="Arial"/>
              </a:rPr>
              <a:t>Swedish Work Environment Authorit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FA - Swedish Forest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Farmer organisation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4:23:16Z</dcterms:created>
  <dc:creator>Andreas</dc:creator>
  <dc:description/>
  <dc:language>en-US</dc:language>
  <cp:lastModifiedBy>Lilian Törnqvist</cp:lastModifiedBy>
  <dcterms:modified xsi:type="dcterms:W3CDTF">2016-03-03T08:44:08Z</dcterms:modified>
  <cp:revision>346</cp:revision>
  <dc:subject/>
  <dc:title>PowerPoint-presentation</dc:title>
</cp:coreProperties>
</file>